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35E-F88E-421E-87B4-AC4A9831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305-5AF0-4810-AD84-2ABE77CD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6A9-7D12-4BE2-8D00-8DA8130F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AC6-6C44-42B1-B104-9BDD05F8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EDB-10FB-4C7E-8BEC-392EFA6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2FA-57DF-4142-87FE-CEFFDE7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03C-9E23-4953-B3B1-2E61CBE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3F7-4769-4095-AD9F-2D4AC32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85B-FA50-47C0-9ECC-E102A0AE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CE4-6C88-40AC-AA34-4945BCE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7F7-08B8-497B-AB43-B0B2F69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A7A-3508-4353-ACFE-AEC115E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FA3-4155-4380-90BE-675AA1F97DBB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A11-45AD-4166-B6A9-DB12EC29EB1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143820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ndes környezetben 3 szobás családi ház el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333-33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NJSZT</dc:creator>
  <dc:description/>
  <dc:language>en-US</dc:language>
  <cp:lastModifiedBy>.</cp:lastModifiedBy>
  <dcterms:modified xsi:type="dcterms:W3CDTF">2003-05-24T21:13:43Z</dcterms:modified>
  <cp:revision>8</cp:revision>
  <dc:subject>ECDL</dc:subject>
  <dc:title>Prezentáció forrás, 4.feladat</dc:title>
</cp:coreProperties>
</file>