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43F5-83C4-4886-A7F9-A6710047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A634-B41C-467C-B07C-9AFA8C8A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F625-E2A1-4860-B76E-C4DFB89A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32C2-3D97-424B-8927-8512383D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20A2-0607-455F-B160-3C910D9B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3DB5-AA9D-4693-A020-96AF890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BD5B-A7FC-4B1C-A16A-3CFE9C07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F925-1FC7-42E4-AC1F-35471DA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1FB3-B39D-4B22-8052-B9BE316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02B4-3947-4082-8289-C76FCC2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AE85-8701-4C50-AB89-E622101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9015-385D-4326-B5B0-2AD9DCD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F99-F5F7-4B12-B219-538C4825D26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228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28600"/>
            <a:ext cx="426744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.</cp:lastModifiedBy>
  <dcterms:modified xsi:type="dcterms:W3CDTF">2003-05-24T21:45:47Z</dcterms:modified>
  <cp:revision>8</cp:revision>
  <dc:subject>ECDL</dc:subject>
  <dc:title>Prezentáció forrás, 7.feladat</dc:title>
</cp:coreProperties>
</file>