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88E-4581-479B-AA66-4377203E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521-C2D0-4B11-ABD2-4CB24193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903-DFEF-4910-9CB2-615BA559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069D-6B00-438C-83D7-3CE51A46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2CB-9EFD-4E8D-B89F-4A67BDE9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222F-C1EE-421E-8C28-EBBBB977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CE8-13B8-4259-B83D-30DC3866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442-9EC6-4CDA-AD26-FA28D798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A20-8D3C-4961-8F9D-846F7C7B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8D42-462A-4313-8422-45BF240F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0B9-745A-4C33-A681-EA64DBDF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35F-7270-4823-8B81-E521F667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21C0-E118-40A4-B1AF-0A338A1B4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ációs program ha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á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áció készí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övegek, képek kezel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ramok, rajzobjektum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ktusok alkalma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títés, nyomta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7:28:02Z</dcterms:created>
  <dc:creator>NJSZT</dc:creator>
  <dc:description/>
  <dc:language>en-US</dc:language>
  <cp:lastModifiedBy>.</cp:lastModifiedBy>
  <dcterms:modified xsi:type="dcterms:W3CDTF">2003-02-19T07:38:30Z</dcterms:modified>
  <cp:revision>2</cp:revision>
  <dc:subject>ECDL</dc:subject>
  <dc:title>Prezentáció forrás, 2b.feladat</dc:title>
</cp:coreProperties>
</file>