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5E3-A0E2-45C6-82C7-610076FF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871-3628-4039-B6A7-A4BEEEF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1A0-D192-4DF7-A1DE-2C17A24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65D-2FD8-4A91-9994-A214328D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6E7-9474-494E-861A-E3EC18F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C7C-B52D-453C-8797-83D05AD1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380-D934-4810-9939-6390A284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9A7-16D1-4016-8B7E-6DA0A47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4C4-A73A-4193-8146-8DCD2796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C43-BE35-44A6-B160-7F4332C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2AC-2A54-4CCA-AD1D-D7FFDBA6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D1D-5BB8-4CE9-85BF-9BED70F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335-51F9-40A8-8CCB-F552A2E2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5943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égyölő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828800"/>
            <a:ext cx="5867640" cy="3809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ap: pettyekkel borított vörös vagy narancssá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nk: fehér színű, hosszú lelógó gallé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gyaszthatóság: mérgez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0:22:00Z</dcterms:created>
  <dc:creator>NJSZT</dc:creator>
  <dc:description/>
  <dc:language>en-US</dc:language>
  <cp:lastModifiedBy>.</cp:lastModifiedBy>
  <dcterms:modified xsi:type="dcterms:W3CDTF">2003-05-26T20:29:52Z</dcterms:modified>
  <cp:revision>2</cp:revision>
  <dc:subject>ECDL</dc:subject>
  <dc:title>Prezentáció forrás, 29b.feladat</dc:title>
</cp:coreProperties>
</file>