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825-D809-4C8F-A8E6-33945C4E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B3A-4469-4CC4-9D90-CCC650E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6A9-F915-4F5A-A1B1-CDED0E40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BB7-CDDC-4AB1-9745-6143E5B1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423-2F0C-4588-B315-711BEF2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F6F-5D2F-4181-98D5-5B6F3C1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55A-8CD1-4308-B690-5BBD8A59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D2F-AED6-4B9A-A49A-5B3DF78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FCD-1774-4D64-A948-BA5F05D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B25-0A42-4FB9-9255-5542B20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B42-3DD8-4C5C-9C17-AC8C5438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D05-6753-49BB-B066-164C4FC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8663-7E07-4329-BE4F-A0FEE6D9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nformáció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NJSZT</dc:creator>
  <dc:description/>
  <dc:language>en-US</dc:language>
  <cp:lastModifiedBy>.</cp:lastModifiedBy>
  <dcterms:modified xsi:type="dcterms:W3CDTF">2003-05-24T20:54:38Z</dcterms:modified>
  <cp:revision>5</cp:revision>
  <dc:subject>ECDL</dc:subject>
  <dc:title>Prezentáció forrás, 2.feladat</dc:title>
</cp:coreProperties>
</file>