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C2A4-FB2F-44E5-8EAF-DB9E398B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1B52-5E84-4C59-BC0B-3B906F1C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BD4-8ED1-4431-919B-D35A357B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81B1-C715-4A5B-946B-7858B742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37F-F424-4EA9-8108-F47001B5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783-0B5E-43AE-82FC-ACFAA2EE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D3DA-CA1C-4799-B087-C8C8ABCC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5DBB-EF3E-4575-A6A8-F83DB9A2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976-77D0-40CF-98C0-2AA83C33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728-8715-4D6D-A72A-995A0493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C93-2973-4532-8556-9DAB5124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7AF-0863-4071-8BB1-A1A89E7F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8CAE-1131-4A1A-8282-1E83478F82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61160" y="1066680"/>
            <a:ext cx="46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ÚRAAJÁNLATOK 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Velencei-tó és környé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4200" y="4267080"/>
            <a:ext cx="236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lencei-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lencei-h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á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árd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62000" y="4267080"/>
            <a:ext cx="204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Pákoz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ukor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Nad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zékesfehérvá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velenceito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32338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32840" y="969840"/>
            <a:ext cx="527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ÚRAAJÁNL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Times New Roman"/>
              </a:rPr>
              <a:t>Bükki Nemzeti P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4560" y="4267080"/>
            <a:ext cx="174132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zilvásvá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llafü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1200" y="4267080"/>
            <a:ext cx="2064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zarvask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ko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kolctapol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600200" y="4038480"/>
          <a:ext cx="6095880" cy="2133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úraajánl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.55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00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.00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.000 Ft/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600200" y="4038480"/>
          <a:ext cx="6095880" cy="2133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úraajánl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 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V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9:31:13Z</dcterms:created>
  <dc:creator>NJSZT</dc:creator>
  <dc:description/>
  <dc:language>en-US</dc:language>
  <cp:lastModifiedBy>.</cp:lastModifiedBy>
  <dcterms:modified xsi:type="dcterms:W3CDTF">2003-05-25T14:54:50Z</dcterms:modified>
  <cp:revision>13</cp:revision>
  <dc:subject>ECDL</dc:subject>
  <dc:title>Prezentáció forrás, 44.feladat</dc:title>
</cp:coreProperties>
</file>