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83C-DDA8-424A-A912-ADEC0E4F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0B3-4669-424D-90E8-41E20D0C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CA4-470D-44C0-87F4-F0DCB224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322-5AFC-4C92-974C-A8EB4B57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952F-A684-431E-AA1B-A4771C9D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4BF3-56B7-4C1A-9B46-2EDC8D4B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0FF4-EEAA-4EE6-B858-590EF6D3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9CB6-3BEC-46B9-9989-C0CFEB0B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75AC-1DBC-41E6-A245-2E46A6AF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C3F9-F854-405E-9C2E-0258E9D1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5AE6-D315-4932-94B6-F55E19E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5B9-CEA5-4BA6-8E4C-33434FE6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BD93-2D4B-4FEF-BDE5-4BEA8049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9DC1-0AB1-42DB-A2C9-E935179A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E858-F24E-4A4A-AB73-C71B6E68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41D8-F8CD-4539-8A37-FE3DFC01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699D-3C1E-479F-A7BA-B10ECB00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B26-9D95-447D-AFFF-29F4A1A5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386-2A5C-4ABE-8B28-26CBF098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A1B-6468-46F9-867D-DF04DD2D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DFE-8B45-48F7-B3CB-04DBC6C8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E9D-6E4F-4B44-938F-79B78FDC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BC7-8254-404E-9F21-E718C28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844-3817-471D-9DE5-9814A2D3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B7B8-4BC1-4FE7-904E-20D5084ABB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83B1-7978-4C46-8994-D56A5211CFC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aprendszerünk bolygó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út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230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251,9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4,7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rkú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488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0,24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48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énus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Átmérője: 1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000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Keringési idő: 0,62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ebesség: 35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öl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12756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1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30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6794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1,88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24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pi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142796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11,87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13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zaturnus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12000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29,62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9,6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ránus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5080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84,6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6,8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ptunus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Átmérője: 48600 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ringési idő: 165,5 é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besség: 5,4 km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59:50Z</dcterms:created>
  <dc:creator>NJSZT</dc:creator>
  <dc:description/>
  <dc:language>en-US</dc:language>
  <cp:lastModifiedBy>.</cp:lastModifiedBy>
  <dcterms:modified xsi:type="dcterms:W3CDTF">2003-03-07T20:00:45Z</dcterms:modified>
  <cp:revision>14</cp:revision>
  <dc:subject>ECDL</dc:subject>
  <dc:title>Prezentáció forrás, 28.feladat</dc:title>
</cp:coreProperties>
</file>