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7534-AFAA-48C1-AB26-42CE820AF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Áruházunkhoz 650 férőhelyes ingyenes parkoló tartoz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846-E729-4697-9F99-EBC4D954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53060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80E-464E-4E1F-9055-138578BE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4352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0B6-FAFC-4BF0-B282-5F14DB61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12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70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12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70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9A2-A8B8-48DC-88EB-14D30E94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25C-1D02-43E8-91BE-27415652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353-8CD8-4BDB-BC24-EA320E92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1DF-A0CF-40F3-B0DD-BDFEECF7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20E-4BF9-4C89-B596-5870DC05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CFA-C2F5-4732-9D14-420788C0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2D7-AE99-4802-9D71-20EC776A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4352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439-4FBE-434E-87FE-FCF06C3E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57C-BD0C-48D0-93BC-37C03D8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00160"/>
            <a:ext cx="7916760" cy="57578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3049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52920" y="624852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AA5E-2FB2-4890-99C0-EEB0E0F94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37240" y="22860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9720" y="2286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ÁRU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Őszi kollekciónk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érfi és női overall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ermek kabátk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érfi nadrágok 40%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ői kosztümök 20%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rnyők, esőkabátok óriási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274320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gyen ősz, tél, tavasz vagy nyár, mindig várja önt az xxx áruház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8600" y="1379520"/>
            <a:ext cx="1663560" cy="1427040"/>
            <a:chOff x="228600" y="1379520"/>
            <a:chExt cx="1663560" cy="1427040"/>
          </a:xfrm>
        </p:grpSpPr>
        <p:sp>
          <p:nvSpPr>
            <p:cNvPr id="55" name=""/>
            <p:cNvSpPr/>
            <p:nvPr/>
          </p:nvSpPr>
          <p:spPr>
            <a:xfrm>
              <a:off x="241200" y="212724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800" y="234144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4960" y="226548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8480" y="226224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560" y="222876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4520" y="139212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7240" y="153036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3440" y="167148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6160" y="183348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74600" y="153684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92200" y="173340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11120" y="191448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76480" y="215568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0120" y="137952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211284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47600" y="150012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3960" y="157644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943240" y="1295280"/>
            <a:ext cx="1663560" cy="1427040"/>
            <a:chOff x="5943240" y="1295280"/>
            <a:chExt cx="1663560" cy="1427040"/>
          </a:xfrm>
        </p:grpSpPr>
        <p:sp>
          <p:nvSpPr>
            <p:cNvPr id="73" name=""/>
            <p:cNvSpPr/>
            <p:nvPr/>
          </p:nvSpPr>
          <p:spPr>
            <a:xfrm flipH="1">
              <a:off x="6949080" y="20430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290720" y="22572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281000" y="21812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162200" y="217800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004880" y="21445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779520" y="130788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987600" y="144612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951240" y="158724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0520" y="174924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962320" y="145260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049440" y="164916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104520" y="183024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136920" y="207144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763680" y="129528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941520" y="202860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943240" y="141588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641280" y="149220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8600" y="5181480"/>
            <a:ext cx="1663560" cy="1427040"/>
            <a:chOff x="228600" y="5181480"/>
            <a:chExt cx="1663560" cy="1427040"/>
          </a:xfrm>
        </p:grpSpPr>
        <p:sp>
          <p:nvSpPr>
            <p:cNvPr id="91" name=""/>
            <p:cNvSpPr/>
            <p:nvPr/>
          </p:nvSpPr>
          <p:spPr>
            <a:xfrm flipV="1">
              <a:off x="241200" y="53604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61800" y="55098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4960" y="57002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28480" y="554796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09560" y="55699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4520" y="592704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87240" y="630504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03440" y="616392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76160" y="600336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074600" y="534816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492200" y="607464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311120" y="583380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176480" y="568260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00120" y="591444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28600" y="534456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47600" y="530496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53960" y="518112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19560" y="5181480"/>
            <a:ext cx="1663560" cy="1427040"/>
            <a:chOff x="6019560" y="5181480"/>
            <a:chExt cx="1663560" cy="1427040"/>
          </a:xfrm>
        </p:grpSpPr>
        <p:sp>
          <p:nvSpPr>
            <p:cNvPr id="109" name=""/>
            <p:cNvSpPr/>
            <p:nvPr/>
          </p:nvSpPr>
          <p:spPr>
            <a:xfrm flipH="1">
              <a:off x="7025400" y="59292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367040" y="61434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357320" y="60674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238520" y="606420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081200" y="60307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855840" y="519408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63920" y="533232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027560" y="547344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936840" y="563544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038640" y="533880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125760" y="553536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180840" y="571644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213240" y="595764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840000" y="518148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017840" y="591480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019560" y="530208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717600" y="537840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676520"/>
            <a:ext cx="2057400" cy="198108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85800" y="4267080"/>
            <a:ext cx="2057400" cy="198144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61800" y="1676520"/>
            <a:ext cx="2057400" cy="198108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961800" y="4267080"/>
            <a:ext cx="2057400" cy="198144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2000" y="51814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ssuth 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73392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ti 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2666880"/>
            <a:ext cx="1600200" cy="914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U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1676520"/>
            <a:ext cx="16002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209680" y="1752480"/>
            <a:ext cx="0" cy="13716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171800" y="218124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ap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7:19:43Z</dcterms:created>
  <dc:creator>NJSZT</dc:creator>
  <dc:description/>
  <dc:language>en-US</dc:language>
  <cp:lastModifiedBy>.</cp:lastModifiedBy>
  <dcterms:modified xsi:type="dcterms:W3CDTF">2003-03-27T07:56:39Z</dcterms:modified>
  <cp:revision>6</cp:revision>
  <dc:subject>ECDL</dc:subject>
  <dc:title>Prezentáció forrás, 43.feladat</dc:title>
</cp:coreProperties>
</file>