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4D5D6-F5E5-483E-959A-77EFC65B2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2AB06-1C72-4CBE-AF48-E6ECCE5F2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AC014-1916-4653-817F-937DEA4D4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12FE2-A4C1-4BF0-855C-7A5521747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3371B-2BEE-4EE8-ABAD-7A89E906D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AEFFD-A27E-4072-A60A-99401AD44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10224-BDDB-4467-802E-9D2A00210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99E56-C21A-4906-9353-0717C5644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AEE40-0EB9-43B5-9462-5A2FB7D84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7F973-CB61-4833-8438-09D6BD9F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92784-6BBF-4AC1-BF7E-9A0C6C92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03FD3-2859-40E8-BEB5-78A149D8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2CB9E-F194-456C-9E06-A38527ED0298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360360" cy="360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79280" y="179280"/>
            <a:ext cx="360360" cy="360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83640" y="6497640"/>
            <a:ext cx="360360" cy="360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5400000">
            <a:off x="8780040" y="-1440"/>
            <a:ext cx="360360" cy="360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5400000">
            <a:off x="8600760" y="177480"/>
            <a:ext cx="360360" cy="360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rot="5400000">
            <a:off x="-3600" y="6496200"/>
            <a:ext cx="360360" cy="360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5400000">
            <a:off x="175320" y="6316560"/>
            <a:ext cx="360360" cy="360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604360" y="6318360"/>
            <a:ext cx="360360" cy="360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83920" y="774720"/>
            <a:ext cx="617616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600" spc="-1" strike="noStrike">
                <a:solidFill>
                  <a:srgbClr val="008000"/>
                </a:solidFill>
                <a:latin typeface="Times New Roman"/>
              </a:rPr>
              <a:t>Ha minket választ,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8000"/>
                </a:solidFill>
                <a:latin typeface="Times New Roman"/>
              </a:rPr>
              <a:t>e</a:t>
            </a:r>
            <a:r>
              <a:rPr b="0" lang="hu-HU" sz="5600" spc="-1" strike="noStrike">
                <a:solidFill>
                  <a:srgbClr val="008000"/>
                </a:solidFill>
                <a:latin typeface="Times New Roman"/>
              </a:rPr>
              <a:t>lvisszük Önt a világ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0" lang="hu-HU" sz="5600" spc="-1" strike="noStrike">
                <a:solidFill>
                  <a:srgbClr val="008000"/>
                </a:solidFill>
                <a:latin typeface="Times New Roman"/>
              </a:rPr>
              <a:t>ármely részére!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609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dszeresen szervezünk utazásokat a világ számos országá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900000">
            <a:off x="2514240" y="2590920"/>
            <a:ext cx="360360" cy="360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15320" y="25146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á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900000">
            <a:off x="4571640" y="2057400"/>
            <a:ext cx="360360" cy="360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1280" y="1981080"/>
            <a:ext cx="18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nciaorszá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900000">
            <a:off x="1599840" y="4419720"/>
            <a:ext cx="360360" cy="360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00560" y="434340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Írorszá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900000">
            <a:off x="3580920" y="3886200"/>
            <a:ext cx="360360" cy="360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82360" y="38098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p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900000">
            <a:off x="5028840" y="3124080"/>
            <a:ext cx="360360" cy="360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304812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lan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900000">
            <a:off x="2819160" y="5334120"/>
            <a:ext cx="360360" cy="360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20600" y="5257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900000">
            <a:off x="4876560" y="4952880"/>
            <a:ext cx="360360" cy="360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77280" y="4876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örökorszá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900000">
            <a:off x="6552720" y="4038480"/>
            <a:ext cx="360360" cy="360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53440" y="396252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imbab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900000">
            <a:off x="990360" y="1981080"/>
            <a:ext cx="360360" cy="360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91080" y="190512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900000">
            <a:off x="6705360" y="2362320"/>
            <a:ext cx="360360" cy="360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706800" y="228600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örögorszá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771640" y="1628640"/>
            <a:ext cx="3598920" cy="3598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381320" y="2101680"/>
            <a:ext cx="638316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8000"/>
                </a:solidFill>
                <a:latin typeface="Times New Roman"/>
              </a:rPr>
              <a:t>8000 Székesfehérvár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8000"/>
                </a:solidFill>
                <a:latin typeface="Times New Roman"/>
              </a:rPr>
              <a:t>Kalap u. 33.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8000"/>
                </a:solidFill>
                <a:latin typeface="Times New Roman"/>
              </a:rPr>
              <a:t>Tel.: (22) 111-111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5T21:27:27Z</dcterms:created>
  <dc:creator>NJSZT</dc:creator>
  <dc:description/>
  <dc:language>en-US</dc:language>
  <cp:lastModifiedBy>.</cp:lastModifiedBy>
  <dcterms:modified xsi:type="dcterms:W3CDTF">2003-03-10T17:56:40Z</dcterms:modified>
  <cp:revision>7</cp:revision>
  <dc:subject>ECDL</dc:subject>
  <dc:title>Prezentáció forrás, 8.feladat</dc:title>
</cp:coreProperties>
</file>