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26F-6108-4DEC-B1EE-97AE5333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584-DE2F-416A-AFDE-04E2E9D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D57-DF9A-4F48-ACED-8979FD5B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201-770F-4053-B92B-813BE62E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456-0B4C-4284-B5FA-33957FAD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D6B-82DF-4D01-B734-0003E6BF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4B5-A8D3-4C30-9A1F-98C5E1C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B48-E131-4C5E-9F98-169CBCD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FA1-3E05-4C3F-B3D9-9B96A4C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9A0-6C33-42EC-957C-2C113FF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57E-7A35-40D2-B083-0076B0A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5DA-8F71-4C78-AE96-0943933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A19-8598-4E80-AF1C-031216553CB2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8550-DB18-4113-9848-3E156426E5E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38200"/>
            <a:ext cx="4114800" cy="164700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bant 601 elad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ó! Ár: 90 000 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777-77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7840" y="3598920"/>
            <a:ext cx="4114800" cy="216468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tsubishi Galant, 1800 cm</a:t>
            </a:r>
            <a:r>
              <a:rPr b="0" lang="hu-HU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, kiváló állapotban elad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Tel.: 999-99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ri tevékenységre alkalmas családi ház eladó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888-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426708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latonparti nyaraló eladó. Ár: 45 millió 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.: 666-66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143820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cserélném budapesti 2 szobás lakásomat székesfehérvári 2 szobásra. Tel.: 111-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+fél szobás lakás eladó. Érd.: XXX Ingatlaniro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7840" y="3598920"/>
            <a:ext cx="4114800" cy="1677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zobás családi házamat elcserélném 2 földszinti lakás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XXX Ingatlaniro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fél szobás, 43 nm-es üres lakás hosszú távra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d.: 555-5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4267080"/>
            <a:ext cx="4114800" cy="1677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ép, 2 szobás lakás igényeseknek, hosszú távra, bútorozottan kiad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rd.: 444-4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nyhalak eladó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7840" y="3598920"/>
            <a:ext cx="4114800" cy="1281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éves ékszerteknősöm elcserélném fiatalabb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.: 222-2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971800"/>
          <a:ext cx="7772400" cy="2438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ossá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lalkozó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é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Ft + á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98760" y="159228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87040" y="159696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rdetési ár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44792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4267080"/>
            <a:ext cx="4114800" cy="88596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447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143820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17840" y="3598920"/>
            <a:ext cx="4114800" cy="885960"/>
          </a:xfrm>
          <a:prstGeom prst="rect">
            <a:avLst/>
          </a:pr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 az Ön hirdetésének a hely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0:13:26Z</dcterms:created>
  <dc:creator>NJSZT</dc:creator>
  <dc:description/>
  <dc:language>en-US</dc:language>
  <cp:lastModifiedBy>.</cp:lastModifiedBy>
  <dcterms:modified xsi:type="dcterms:W3CDTF">2003-06-03T18:28:18Z</dcterms:modified>
  <cp:revision>9</cp:revision>
  <dc:subject>ECDL</dc:subject>
  <dc:title>Prezentáció forrás, 3.feladat</dc:title>
</cp:coreProperties>
</file>