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23F7-E1BC-4AD4-8749-DED6225F8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6400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2808000"/>
            <a:ext cx="6400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4062-3AE4-42A1-A635-CB7A97FD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312336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1295280"/>
            <a:ext cx="312336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2808000"/>
            <a:ext cx="312336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2808000"/>
            <a:ext cx="312336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12AF-BFC8-4C53-92A2-0BD2A7F92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206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1295280"/>
            <a:ext cx="206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1295280"/>
            <a:ext cx="206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2808000"/>
            <a:ext cx="206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2808000"/>
            <a:ext cx="206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2808000"/>
            <a:ext cx="206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B142-6C94-4740-8AE5-E81B9602A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1295280"/>
            <a:ext cx="640080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D876-328D-49B9-B1C4-A8844FEC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64008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DE11-6260-47B6-8E27-797E6CE2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312336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1295280"/>
            <a:ext cx="312336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0A63-31B2-4ABD-929D-2BCA5CB8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4C29-5039-4CFD-8CB1-13EBDFCE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A1A6-EC54-4589-B0BB-6E38F270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312336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1295280"/>
            <a:ext cx="312336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2808000"/>
            <a:ext cx="312336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3EB6-DDCC-46E6-814F-C1BDDE14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312336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1295280"/>
            <a:ext cx="312336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2808000"/>
            <a:ext cx="312336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0274-FBCC-48D2-AADC-3CEB6397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312336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1295280"/>
            <a:ext cx="312336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2808000"/>
            <a:ext cx="6400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292C-CAEC-475D-ABC1-52E9A74A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332000" y="1270080"/>
            <a:ext cx="6478560" cy="4317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371600" y="1295280"/>
            <a:ext cx="64008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88400" indent="-157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04120" indent="-157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19480" indent="-157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19480" indent="-157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19480" indent="-157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03FE-6AEB-4FA0-B2F6-E63E98920FDC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371600" y="1295280"/>
            <a:ext cx="64008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állalj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saládi háza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orháza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rodaépülete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yaraló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edi tervezését és kivitelezésé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L00381_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4603680" cy="2575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47920" y="510444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l.: (11) 123-456; (11) 654-3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2T19:28:36Z</dcterms:created>
  <dc:creator>NJSZT</dc:creator>
  <dc:description/>
  <dc:language>en-US</dc:language>
  <cp:lastModifiedBy>.</cp:lastModifiedBy>
  <dcterms:modified xsi:type="dcterms:W3CDTF">2003-05-26T20:43:37Z</dcterms:modified>
  <cp:revision>6</cp:revision>
  <dc:subject>ECDL</dc:subject>
  <dc:title>Prezentáció forrás, 36.feladat</dc:title>
</cp:coreProperties>
</file>