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2D0-DF94-4344-A4B3-E2BAA96B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344-3CC7-4204-9A89-EC5B73BC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F3F-9BD6-4336-AF3B-F569C43D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3EA-BCC1-44FF-B26B-B9DA48CB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CC14-C423-4D4D-A8B2-649304CD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02CD-88E3-4AC5-9A0A-47E85522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648E-6856-49C2-B3E7-FB675E5A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C326-4985-4EB6-A644-CC850615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825B-146B-41D3-BFA2-F04EF8FF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6EF4-EB05-47CF-B39F-D6F4E7E4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3FBC-B0DE-47EB-A49C-A8813C42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0C9-FA63-41DE-B816-73BF2106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D539-5AD1-43E3-8E3B-42E568F7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32A6-7AA4-4473-B989-E498C3D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CCF3-F3BE-4290-A831-F7331C63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5444-24CC-428E-9702-19C5A87C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442B-2149-4EA3-9925-13BF76D7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DF4-B09C-4405-8F86-E61FF9FA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FF0-7A30-4A14-8EAD-070F5B6D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50E-8EC9-41B3-B921-AF9320D2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313-EE1B-49CF-9DC1-B98114F8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426-87D8-49D4-A290-4DC6DF60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DAA-7C1F-4133-BB98-B71D0CE2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425-651C-4446-91DB-F8D3B929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E1D6-1830-4B84-B992-3070F4000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720" y="549360"/>
            <a:ext cx="791676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E5EF-E3EC-4FBC-8632-F2B210A69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772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észvénytársaságunk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rodaházak, raktárak, üzletközpontok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ervezésével és kivitelezésével foglalkozik. Sikeres üzletpolitikánk titka az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gényesség, gyorsaság és megbízhatóság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Ezt bizonyítja, hogy megalakulásunk óta több mint 40 jelentős beruházást hajtottunk vég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Jegyezzen Ön is részvényünkb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236232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66960" y="2773440"/>
            <a:ext cx="720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További felvilágosításért hívja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999-9999-es telefonszámo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1:57:31Z</dcterms:created>
  <dc:creator>NJSZT</dc:creator>
  <dc:description/>
  <dc:language>en-US</dc:language>
  <cp:lastModifiedBy>.</cp:lastModifiedBy>
  <dcterms:modified xsi:type="dcterms:W3CDTF">2003-06-03T18:38:42Z</dcterms:modified>
  <cp:revision>11</cp:revision>
  <dc:subject>ECDL</dc:subject>
  <dc:title>Prezentáció forrás, 25.feladat</dc:title>
</cp:coreProperties>
</file>