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0F14E-988B-462F-BFF5-571DCEDDA5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kedvezmény mértéke 5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726B-FC48-49E9-BBB6-4820206A5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057400" y="1981080"/>
            <a:ext cx="640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057400" y="4130640"/>
            <a:ext cx="640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A50E-A8D9-418E-B6CE-A606E7BAB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05740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736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057400" y="413064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337360" y="413064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AF53-247F-42D8-AA2E-AF631F088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057400" y="198108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21360" y="198108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85680" y="198108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057400" y="413064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221360" y="413064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85680" y="413064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F403-8F01-45E9-8767-1BE091588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0574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094C-4860-4838-98BB-755067589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0574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56F1-909F-4531-B530-960772D2E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057400" y="1981080"/>
            <a:ext cx="312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337360" y="1981080"/>
            <a:ext cx="312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7A0B-C2C0-408A-BA8D-508DA70DF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A874-6A90-4EF0-97D8-6C4E4C7F1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057400" y="609120"/>
            <a:ext cx="640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0DFA-D4D0-4596-9714-8BDE29790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05740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337360" y="1981080"/>
            <a:ext cx="312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057400" y="413064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5C9C-0936-4844-830E-E2622460A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057400" y="1981080"/>
            <a:ext cx="312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3736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37360" y="413064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9B19-8DAD-4789-8330-2DAEC4748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05740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3736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057400" y="4130640"/>
            <a:ext cx="640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5AA8-EDDA-4C63-BF96-29A42E3C3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0574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6D446-E910-4E4E-92CF-974949BB1034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0"/>
            <a:ext cx="1295280" cy="6095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XX 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Könyvkiad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895480" y="2652840"/>
            <a:ext cx="3749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adónk tankönyvek, ismeretterjesztő kiadványok, lexikonok kiadásával foglalkozi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BS00554_" descr=""/>
          <p:cNvPicPr/>
          <p:nvPr/>
        </p:nvPicPr>
        <p:blipFill>
          <a:blip r:embed="rId1"/>
          <a:stretch/>
        </p:blipFill>
        <p:spPr>
          <a:xfrm>
            <a:off x="6629400" y="4495680"/>
            <a:ext cx="2070000" cy="18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Eddig megjelent kiadványain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0574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Regék és mondák (történelmi olvasókönyv általános iskolásokna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Érettségi feladatok fizikábó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Érettségi feladatok biológiábó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Érettségi feladatok matematikábó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Biológiai kislexik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743200" y="1523880"/>
            <a:ext cx="5715000" cy="3810240"/>
          </a:xfrm>
          <a:prstGeom prst="irregularSeal2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zonteladók és iskolák kedvezménnyel vásárolhatna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895480" y="2652840"/>
            <a:ext cx="374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resse fel bemutatóüzletünket a kiadónál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3T08:14:40Z</dcterms:created>
  <dc:creator>NJSZT</dc:creator>
  <dc:description/>
  <dc:language>en-US</dc:language>
  <cp:lastModifiedBy>.</cp:lastModifiedBy>
  <dcterms:modified xsi:type="dcterms:W3CDTF">2003-05-25T14:38:44Z</dcterms:modified>
  <cp:revision>5</cp:revision>
  <dc:subject>ECDL</dc:subject>
  <dc:title>Prezentáció forrás, 41.feladat</dc:title>
</cp:coreProperties>
</file>