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CE2-D56A-4221-999D-FE7E1490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754-D952-4700-9646-251AB62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A18-FC89-4827-B813-42DAD345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B08-5A12-4DF3-8825-F8A93417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935-FCB9-4AC7-8429-7DDDE99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61E-1476-467B-9B04-BA9EE35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348-3F86-4777-9B7A-E629C66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6D5-0A8C-403B-AF2F-5580B02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218-94B3-40FB-A4B4-59E2002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6F8-E507-418D-981D-00DCCDE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2BC-0ACC-4644-8F73-B009280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135-80EB-44E3-8B0D-5ACAFA7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A9A-8B04-4AF0-9670-133A04760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09:09Z</dcterms:created>
  <dc:creator>NJSZT</dc:creator>
  <dc:description/>
  <dc:language>en-US</dc:language>
  <cp:lastModifiedBy>.</cp:lastModifiedBy>
  <dcterms:modified xsi:type="dcterms:W3CDTF">2003-05-26T20:13:51Z</dcterms:modified>
  <cp:revision>4</cp:revision>
  <dc:subject>ECDL</dc:subject>
  <dc:title>Prezentáció forrás, 47b.feladat</dc:title>
</cp:coreProperties>
</file>