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FA74-8A0C-47A9-9ED8-7542E24E2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EE3D-EF24-4018-955C-4AF054E1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D8E6-799F-4241-A580-ADBB2B385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B587-24CE-42AE-BD54-EF51B886C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F613-A2C5-4C80-9692-ADE671E9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5304-1381-44EC-A156-728C64EB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7CDB-674F-412D-9300-EBABE872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7A93-D30D-4FAB-BEE8-51A47DA6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8A2E-FA66-4DED-B2CE-F030EBF7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8E2A-526E-4BB9-918F-564DCDC4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516B-7A89-4949-A29D-AAD1C8C9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3775-580A-486C-81E0-59DE93A0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30492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30492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733920" y="304920"/>
            <a:ext cx="167616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410080" y="30492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86600" y="30492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86696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057400" y="186696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733920" y="1866960"/>
            <a:ext cx="167616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410080" y="186696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086600" y="186696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80880" y="342900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057400" y="342900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733920" y="3429000"/>
            <a:ext cx="167616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5410080" y="342900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7086600" y="342900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380880" y="499104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2057400" y="499104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733920" y="4991040"/>
            <a:ext cx="167616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5410080" y="499104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086600" y="4991040"/>
            <a:ext cx="1676520" cy="156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7043-0F1D-4D51-8A89-922CB45D4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68600" y="3017880"/>
            <a:ext cx="58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Szenzációs csempe és padlóburkoló választék az XXX CSEMPEBOLTBA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368280"/>
            <a:ext cx="83822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üZLETÜNKBE KIVÁLÓ MINŐSÉGŰ OLASZ CSEMPÉK ÉRKEZTEK. tÖBB MINT 80 KÜLÖNBÖZŐ CSEMPE ÉS PADLÓBURKOLÓ KÖZÜL VÁLASZTHAT, A LEGKEDVEZŐBB ÁRTÓL A LEGIGÉNYESEBB MINŐSÉGI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668600" y="1141560"/>
            <a:ext cx="580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Címünk: Szeged, Fogas út 99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999-99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71600" y="1371600"/>
            <a:ext cx="2879640" cy="2158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lasz márványmintás csem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000 Ft/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29200" y="2971800"/>
            <a:ext cx="2879640" cy="287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Gránitmintás fagyálló tapos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500 Ft/m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09:44:14Z</dcterms:created>
  <dc:creator>NJSZT</dc:creator>
  <dc:description/>
  <dc:language>en-US</dc:language>
  <cp:lastModifiedBy>.</cp:lastModifiedBy>
  <dcterms:modified xsi:type="dcterms:W3CDTF">2003-05-03T16:13:02Z</dcterms:modified>
  <cp:revision>11</cp:revision>
  <dc:subject>ECDL</dc:subject>
  <dc:title>Prezentáció forrás, 38.feladat</dc:title>
</cp:coreProperties>
</file>