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45F-311F-4A91-877B-3151A44E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073-2480-4122-8783-B9DA0474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753-4FFA-4C50-87C7-011C45D1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788F-26C2-4164-8B3F-328AB89B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DCA-98F0-43AF-B7CE-282E8A74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A67-B59E-440E-AF9D-E2769DB9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DBC-2CE6-4AE0-8199-70A6FC59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84D-2FF5-40A0-ABE1-F2E6E823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E8F2-0C87-473D-A6C4-E760BCD6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6F4-E6C3-4F27-BBD7-20BD6840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B82-3A3F-46B4-A44E-2E76C260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ECC3-0398-4EA0-B42F-4AFCCDFA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8300-0F5C-477A-A04C-39AFECBC1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198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198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42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3429000"/>
            <a:ext cx="144000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97240" y="1401840"/>
            <a:ext cx="2492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62120" cy="685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7200" y="853920"/>
            <a:ext cx="51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Szolgáltatásain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8520" y="2602080"/>
            <a:ext cx="546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ckázatelem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ektetési tanácsa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őségbiztosí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állalatirányító rendszerek telepít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1979640"/>
          <a:ext cx="776916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79640"/>
                    <a:ext cx="776916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51160" y="853920"/>
            <a:ext cx="53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A MEGOLDÁS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67360" y="990720"/>
            <a:ext cx="762120" cy="761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1:05:30Z</dcterms:created>
  <dc:creator>NJSZT</dc:creator>
  <dc:description/>
  <dc:language>en-US</dc:language>
  <cp:lastModifiedBy>.</cp:lastModifiedBy>
  <dcterms:modified xsi:type="dcterms:W3CDTF">2003-05-25T15:10:26Z</dcterms:modified>
  <cp:revision>6</cp:revision>
  <dc:subject>ECDL</dc:subject>
  <dc:title>Prezentáció forrás, 46.feladat</dc:title>
</cp:coreProperties>
</file>