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7A8-EE41-4C29-81BA-661D8CE2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E84-DD74-490E-AA73-EC5DC58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1CC-09CC-415F-99A2-5AB76F8E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7AB-0931-4CBD-BF02-27967853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085-C457-4F00-8856-17C22D3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07A-D9A1-4C14-84CC-958A829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E07-EDC2-4A9D-817D-62454A7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CB1-1805-4C64-B534-E7BD76D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A32-4FA6-4C4A-A045-09288C33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A09-921A-4C25-99F6-17B1797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52B-00F7-4581-B78A-F281942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57D-00CB-4CF3-A9CF-62134C9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4B9-43AB-460D-9352-FDCE7D9E6D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235-D158-4065-BF42-75ACEFDA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77120" y="6400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XX Virágüz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virág3" descr=""/>
          <p:cNvPicPr/>
          <p:nvPr/>
        </p:nvPicPr>
        <p:blipFill>
          <a:blip r:embed="rId2"/>
          <a:stretch/>
        </p:blipFill>
        <p:spPr>
          <a:xfrm>
            <a:off x="311292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2" name="virág3" descr=""/>
          <p:cNvPicPr/>
          <p:nvPr/>
        </p:nvPicPr>
        <p:blipFill>
          <a:blip r:embed="rId3"/>
          <a:stretch/>
        </p:blipFill>
        <p:spPr>
          <a:xfrm>
            <a:off x="374652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3" name="virág3" descr=""/>
          <p:cNvPicPr/>
          <p:nvPr/>
        </p:nvPicPr>
        <p:blipFill>
          <a:blip r:embed="rId4"/>
          <a:stretch/>
        </p:blipFill>
        <p:spPr>
          <a:xfrm>
            <a:off x="438156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4" name="virág3" descr=""/>
          <p:cNvPicPr/>
          <p:nvPr/>
        </p:nvPicPr>
        <p:blipFill>
          <a:blip r:embed="rId5"/>
          <a:stretch/>
        </p:blipFill>
        <p:spPr>
          <a:xfrm>
            <a:off x="5016600" y="0"/>
            <a:ext cx="379440" cy="533520"/>
          </a:xfrm>
          <a:prstGeom prst="rect">
            <a:avLst/>
          </a:prstGeom>
          <a:ln w="0">
            <a:noFill/>
          </a:ln>
        </p:spPr>
      </p:pic>
      <p:pic>
        <p:nvPicPr>
          <p:cNvPr id="15" name="virág3" descr=""/>
          <p:cNvPicPr/>
          <p:nvPr/>
        </p:nvPicPr>
        <p:blipFill>
          <a:blip r:embed="rId6"/>
          <a:stretch/>
        </p:blipFill>
        <p:spPr>
          <a:xfrm>
            <a:off x="5626080" y="0"/>
            <a:ext cx="3794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18584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Vágott és cserepes virágok, trópusi növények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virágkülönlegességek. Kaktuszok, pozsgások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</a:rPr>
              <a:t>orchideák a legnagyobb választékb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rág2" descr=""/>
          <p:cNvPicPr/>
          <p:nvPr/>
        </p:nvPicPr>
        <p:blipFill>
          <a:blip r:embed="rId1"/>
          <a:stretch/>
        </p:blipFill>
        <p:spPr>
          <a:xfrm>
            <a:off x="3657600" y="262404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118584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állaljuk esküvői, ballagási csokrok, koszorúk elkészítését, rendezvényekhez virágdekoráció kivitelezését, növények kölcsönzésé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685800"/>
            <a:ext cx="7620120" cy="3958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Címünk: 1261 Budapest, Kamilla u. 8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Telefon: 987-76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Nyitva tartá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H-P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SZ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V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ZÁRV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01:18Z</dcterms:created>
  <dc:creator>NJSZT</dc:creator>
  <dc:description/>
  <dc:language>en-US</dc:language>
  <cp:lastModifiedBy>.</cp:lastModifiedBy>
  <dcterms:modified xsi:type="dcterms:W3CDTF">2003-06-03T18:31:26Z</dcterms:modified>
  <cp:revision>16</cp:revision>
  <dc:subject>ECDL</dc:subject>
  <dc:title>Prezentáció forrás, 16.feladat</dc:title>
</cp:coreProperties>
</file>