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12F-8E36-4E52-9202-5641DC9B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FEC-9F9D-4086-B193-F06F83E8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139-E78F-4ECD-BE4A-EE03024F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E76-6039-4CBF-9894-4924E4A4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DDE-881F-4C1A-BAB5-CB1F131F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858-B5BA-4837-9D16-C49091E2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C5AF-60B9-4478-950B-3970FFCF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F1D-F713-4002-A2CF-BF7787E6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7F4-746E-4F53-B276-1781247B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329-845D-4F76-8ED3-D97F162A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269-40AE-453C-B333-B02C1B00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088-9CF6-48ED-94A1-8EA332B4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DF0D-3DFC-41E7-ACE9-1415DA4D5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97240" y="1401840"/>
            <a:ext cx="2492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62120" cy="68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7200" y="853920"/>
            <a:ext cx="51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Szolgáltatásain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8520" y="2602080"/>
            <a:ext cx="54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ckázatelem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ektetési tanácsa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őségbiztosí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állalatirányító rendszerek telepít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1979640"/>
          <a:ext cx="776916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79640"/>
                    <a:ext cx="776916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1:05:30Z</dcterms:created>
  <dc:creator>NJSZT</dc:creator>
  <dc:description/>
  <dc:language>en-US</dc:language>
  <cp:lastModifiedBy>.</cp:lastModifiedBy>
  <dcterms:modified xsi:type="dcterms:W3CDTF">2003-05-25T15:37:49Z</dcterms:modified>
  <cp:revision>6</cp:revision>
  <dc:subject>ECDL</dc:subject>
  <dc:title>Prezentáció forrás, 47.feladat</dc:title>
</cp:coreProperties>
</file>