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18D-55AC-4BCA-B61A-9117928D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45AA-6E02-4AA2-912B-1A0AF328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97C2-F186-4F89-B137-977894AB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EDB-BA49-4D14-8468-EF9DE249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DFD-89EA-4D86-8994-D7E3E958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1F5-70E6-4708-B161-9768F862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478-FA3A-4F04-8F39-A0CD2D95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DC7-94D7-4DD2-9BCA-00B272C7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4391-603F-431D-BC1D-881AFF53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276-6401-4EA8-96F6-907FA091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336-68D5-4603-8E7B-0FC895DA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2B0-523E-4587-A197-B389FB77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9B37-F131-4E44-B6E0-C32169DF9FB4}" type="slidenum">
              <a:rPr b="0" lang="en-US" sz="14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743200"/>
            <a:ext cx="304920" cy="30492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457200"/>
            <a:ext cx="609480" cy="60948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96080" y="2438280"/>
            <a:ext cx="1295640" cy="129564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2286000"/>
            <a:ext cx="228600" cy="2286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447920" y="99072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09680" y="4495680"/>
            <a:ext cx="762120" cy="76212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5867280" y="4343400"/>
            <a:ext cx="152640" cy="15228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295280" y="5486400"/>
            <a:ext cx="228600" cy="2286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267080" y="51814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696080" y="5029200"/>
            <a:ext cx="304920" cy="30492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04920" y="304920"/>
            <a:ext cx="609480" cy="6094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Naprendszerünk bolygói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Neptunusz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48600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165,5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5,4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Merkúr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4880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0,24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48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Vénusz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12104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0,62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35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Föld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12756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1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30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6794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1,88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24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142796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11,87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22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Szaturnusz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120000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29,62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9,6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Uránusz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50800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84,6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6,8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Plútó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Átmérője: 2300 km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Keringési idő: 251,9 év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ebesség: 4,7 km/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59:50Z</dcterms:created>
  <dc:creator>NJSZT</dc:creator>
  <dc:description/>
  <dc:language>en-US</dc:language>
  <cp:lastModifiedBy>.</cp:lastModifiedBy>
  <dcterms:modified xsi:type="dcterms:W3CDTF">2003-05-25T11:40:01Z</dcterms:modified>
  <cp:revision>14</cp:revision>
  <dc:subject>ECDL</dc:subject>
  <dc:title>Prezentáció forrás, 27.feladat</dc:title>
</cp:coreProperties>
</file>