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4E35-97AD-4841-98ED-F1F2198E3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35989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1640" y="3708360"/>
            <a:ext cx="35989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155A-DDDA-4EB5-B3F4-4EBAFC69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15920" y="182844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1640" y="370836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15920" y="370836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2E1F-60EA-4912-A4D7-4D3A41A89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11584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88440" y="1828440"/>
            <a:ext cx="11584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05240" y="1828440"/>
            <a:ext cx="11584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1640" y="3708360"/>
            <a:ext cx="11584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88440" y="3708360"/>
            <a:ext cx="11584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05240" y="3708360"/>
            <a:ext cx="11584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0455-2944-41FD-9C70-77A332D35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1640" y="1828440"/>
            <a:ext cx="359892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F2EF-0697-4372-90EC-A1B1DEB9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35989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7FF0-DA02-4F79-B8F4-4854A8A2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17560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15920" y="1828440"/>
            <a:ext cx="17560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5C43-B81F-4DE4-B15E-8391CC65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4F7D-F361-4073-AFE5-2D6F6091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35AD-40D5-497C-90F5-52403A9D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15920" y="1828440"/>
            <a:ext cx="17560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1640" y="370836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C467-4FA0-480C-B785-BCAEAF06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17560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15920" y="182844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15920" y="370836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4C64-DDAE-4D5A-9084-B6F1A569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15920" y="1828440"/>
            <a:ext cx="17560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1640" y="3708360"/>
            <a:ext cx="35989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D713-496C-472B-BD86-C389FA84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1640" y="1828440"/>
            <a:ext cx="35989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1520" indent="-146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46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316520" indent="-146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316520" indent="-146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316520" indent="-146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F675-A288-4C19-9755-E55A84D4F7C8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yilkos galó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35989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alap: 15 cm széles is lehet, sárgászöld színű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emezek: fehérek és sűrű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önk: 12 cm magas, alján bocsk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ogyaszthatóság: halálosan mérgező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gy őzlábgom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35989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alap: 25–30 cm széles, felülete pikkely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emezek: sűrűek, fehérek, majd barnás árnyalatú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önk: 40 cm magas is lehet, belül üre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ogyaszthatóság: ehető, finom íz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3244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ti csiper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1640" y="1828800"/>
            <a:ext cx="35989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alap: 12 cm átmérőjű is lehet, fehér szín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emezek: világos rózsaszínű, majd sötétbar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önk: átmérője legfeljebb 2 cm, gallé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ogyaszthatóság: ehető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őzláb" descr=""/>
          <p:cNvPicPr/>
          <p:nvPr/>
        </p:nvPicPr>
        <p:blipFill>
          <a:blip r:embed="rId1"/>
          <a:stretch/>
        </p:blipFill>
        <p:spPr>
          <a:xfrm>
            <a:off x="1143000" y="2055960"/>
            <a:ext cx="1863720" cy="27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2T18:31:04Z</dcterms:created>
  <dc:creator>NJSZT</dc:creator>
  <dc:description/>
  <dc:language>en-US</dc:language>
  <cp:lastModifiedBy>.</cp:lastModifiedBy>
  <dcterms:modified xsi:type="dcterms:W3CDTF">2003-05-26T20:21:32Z</dcterms:modified>
  <cp:revision>6</cp:revision>
  <dc:subject>ECDL</dc:subject>
  <dc:title>Prezentáció forrás, 29.feladat</dc:title>
</cp:coreProperties>
</file>