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34A-7D79-4038-9924-3941301F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178-4F96-4524-9155-5E7C4276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1A7-7598-4799-B2D4-30DCA69A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63B-A9EE-48ED-BD44-994B0AA2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67DE-2EB7-4ADE-9884-6AEA4528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B882-B8DD-45F5-8F65-A8C0186C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0118-1A04-4B80-9233-6312B8A4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41FA-73FE-4956-BBB5-403B72B2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E1C0-36C2-4D70-AC54-8096B44D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0C44-12CD-4097-8151-6B3B706D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06F9-B45A-4AD4-84A4-883E1DE5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215-62A5-4968-9E87-08DE7555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ED45-B864-4A20-BAA8-AF7145AE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670B-F151-44A3-8CC3-C5AD5F7C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119A-1A81-4A1D-AF80-0E977C1C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FF25-1E66-4EA3-9488-618592F6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9206-8477-4215-A2BA-BC54E2F3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320-50E2-491B-9AB1-4D042E65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A98-7961-46D5-8065-B5CBA8EF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8D5-D87B-4864-BEAB-DE901DD4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F36-A2C8-447D-B236-305D7280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73E-15FF-4F8F-8F69-74A7475D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44A-69F1-4BFA-8940-A1D9ABF5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F8C-D00B-4564-BBE9-F6D2CD13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F7CC-22FD-48FF-98EF-840A7204854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408C-2489-40BC-AB70-0FFC5A5BEE8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518840"/>
            <a:ext cx="73803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 DVD lemez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VD típuso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13:52Z</dcterms:created>
  <dc:creator>NJSZT</dc:creator>
  <dc:description/>
  <dc:language>en-US</dc:language>
  <cp:lastModifiedBy>Rokobauer József</cp:lastModifiedBy>
  <dcterms:modified xsi:type="dcterms:W3CDTF">2008-05-15T08:12:25Z</dcterms:modified>
  <cp:revision>4</cp:revision>
  <dc:subject>ECDL</dc:subject>
  <dc:title>Prezentáció forrás, 15b.feladat</dc:title>
</cp:coreProperties>
</file>