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631-0DB2-4272-9A42-86099DD7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19C-78A4-4950-8AD9-FF929074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738-CFA2-4608-B140-C7C67D74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AB9-87B6-487E-B84C-F1ACFC58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FFA-F368-406C-8841-AE0B6510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010-E6E6-4B7E-854E-6E483A7C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1C7-21E4-4635-BDCD-9BE5FAE5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18A-2AE2-4537-8034-437BF3D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4AB-0459-47FA-81B8-BA99879E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58C-83F8-4875-B5E3-FC6DB43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7D7-8144-4B24-B17B-14C921E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66E-C1E9-43EA-A570-24A833C3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2E7A-0C2E-402A-8805-94B3EF85C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8080" y="969840"/>
            <a:ext cx="621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ÚRAAJÁNLATOK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00"/>
                </a:solidFill>
                <a:latin typeface="Times New Roman"/>
              </a:rPr>
              <a:t>Balaton és környé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33680" y="4267080"/>
            <a:ext cx="14014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h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zth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3440" y="4267080"/>
            <a:ext cx="15188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acs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óf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9:31:13Z</dcterms:created>
  <dc:creator>NJSZT</dc:creator>
  <dc:description/>
  <dc:language>en-US</dc:language>
  <cp:lastModifiedBy>.</cp:lastModifiedBy>
  <dcterms:modified xsi:type="dcterms:W3CDTF">2003-03-28T20:44:37Z</dcterms:modified>
  <cp:revision>13</cp:revision>
  <dc:subject>ECDL</dc:subject>
  <dc:title>Prezentáció forrás, 45b.feladat</dc:title>
</cp:coreProperties>
</file>