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545-94CF-4A97-8E9F-D1CEAF5F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2B9-3073-4E72-B398-443CFB14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AA80-79AE-4908-A9A0-A0930567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664-DBF6-4325-9EB5-26AC07BE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DB6-B519-4321-A10C-DAF2F7C7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3EA-CFB7-436F-B527-0E643CEF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EF7-C0EC-47CF-96F4-AED2D19E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D57-8BFF-489C-8D82-077663DB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C1F-A615-43AD-95FA-AF90570E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1B6-8084-4792-A8F1-F80FEEC7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F2F-DDB3-42CD-8F1C-A96249CB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940-77FA-4926-98FF-F4C5B3B3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165240"/>
            <a:ext cx="8812080" cy="65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FF93-6921-41A0-8819-4FAD4F725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nfolyami kínálatunkbó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Számítástechnikai alapismeretek, 2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Szövegszerkesztés, 3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Táblázatkezelés, 36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Prezentációkészítés, 2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ECDL, 15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Számítástechnikai szoftverüzemeltető, 25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Számítástechnikai programozó, 1200 ó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3840" y="6094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Út az emelt szintű végzettségh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66680" y="1676160"/>
            <a:ext cx="6591600" cy="4572360"/>
            <a:chOff x="1066680" y="1676160"/>
            <a:chExt cx="6591600" cy="4572360"/>
          </a:xfrm>
        </p:grpSpPr>
        <p:sp>
          <p:nvSpPr>
            <p:cNvPr id="46" name=""/>
            <p:cNvSpPr/>
            <p:nvPr/>
          </p:nvSpPr>
          <p:spPr>
            <a:xfrm flipV="1">
              <a:off x="1066680" y="5078160"/>
              <a:ext cx="6591600" cy="1170000"/>
            </a:xfrm>
            <a:custGeom>
              <a:avLst/>
              <a:gdLst>
                <a:gd name="textAreaLeft" fmla="*/ 997560 w 6591600"/>
                <a:gd name="textAreaRight" fmla="*/ 5594040 w 6591600"/>
                <a:gd name="textAreaTop" fmla="*/ 177120 h 1170000"/>
                <a:gd name="textAreaBottom" fmla="*/ 992880 h 11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865" y="21600"/>
                  </a:lnTo>
                  <a:lnTo>
                    <a:pt x="2735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CD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1890720" y="4014000"/>
              <a:ext cx="4943520" cy="1063800"/>
            </a:xfrm>
            <a:custGeom>
              <a:avLst/>
              <a:gdLst>
                <a:gd name="textAreaLeft" fmla="*/ 824760 w 4943520"/>
                <a:gd name="textAreaRight" fmla="*/ 4118760 w 4943520"/>
                <a:gd name="textAreaTop" fmla="*/ 177480 h 1063800"/>
                <a:gd name="textAreaBottom" fmla="*/ 886320 h 10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63" y="21600"/>
                  </a:lnTo>
                  <a:lnTo>
                    <a:pt x="3337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zámítástechnikai szoftverüzemeltet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100 ó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2664000" y="1675440"/>
              <a:ext cx="3396960" cy="2338200"/>
            </a:xfrm>
            <a:custGeom>
              <a:avLst/>
              <a:gdLst>
                <a:gd name="textAreaLeft" fmla="*/ 1218600 w 3396960"/>
                <a:gd name="textAreaRight" fmla="*/ 2178360 w 3396960"/>
                <a:gd name="textAreaTop" fmla="*/ 838800 h 2338200"/>
                <a:gd name="textAreaBottom" fmla="*/ 1499400 h 23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zámítástechnika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gramoz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950 ó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 flipH="1" flipV="1">
            <a:off x="5181120" y="1904760"/>
            <a:ext cx="2971800" cy="42670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468360" y="907920"/>
            <a:ext cx="7703640" cy="4103280"/>
            <a:chOff x="468360" y="907920"/>
            <a:chExt cx="7703640" cy="4103280"/>
          </a:xfrm>
        </p:grpSpPr>
        <p:cxnSp>
          <p:nvCxnSpPr>
            <p:cNvPr id="51" name="_s14368"/>
            <p:cNvCxnSpPr>
              <a:stCxn id="52" idx="1"/>
              <a:endCxn id="53" idx="2"/>
            </p:cNvCxnSpPr>
            <p:nvPr/>
          </p:nvCxnSpPr>
          <p:spPr>
            <a:xfrm rot="10800000">
              <a:off x="5907960" y="3251880"/>
              <a:ext cx="225360" cy="146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4366"/>
            <p:cNvCxnSpPr>
              <a:stCxn id="55" idx="1"/>
              <a:endCxn id="53" idx="2"/>
            </p:cNvCxnSpPr>
            <p:nvPr/>
          </p:nvCxnSpPr>
          <p:spPr>
            <a:xfrm rot="10800000">
              <a:off x="5907960" y="3251880"/>
              <a:ext cx="225360" cy="58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4364"/>
            <p:cNvCxnSpPr>
              <a:stCxn id="57" idx="1"/>
              <a:endCxn id="58" idx="2"/>
            </p:cNvCxnSpPr>
            <p:nvPr/>
          </p:nvCxnSpPr>
          <p:spPr>
            <a:xfrm rot="10800000">
              <a:off x="1148760" y="3251880"/>
              <a:ext cx="225720" cy="146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4362"/>
            <p:cNvCxnSpPr>
              <a:stCxn id="60" idx="1"/>
              <a:endCxn id="58" idx="2"/>
            </p:cNvCxnSpPr>
            <p:nvPr/>
          </p:nvCxnSpPr>
          <p:spPr>
            <a:xfrm rot="10800000">
              <a:off x="1148760" y="3251880"/>
              <a:ext cx="225720" cy="58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4360"/>
            <p:cNvCxnSpPr>
              <a:stCxn id="62" idx="0"/>
              <a:endCxn id="63" idx="2"/>
            </p:cNvCxnSpPr>
            <p:nvPr/>
          </p:nvCxnSpPr>
          <p:spPr>
            <a:xfrm flipV="1" rot="16200000">
              <a:off x="6949080" y="2123280"/>
              <a:ext cx="293760" cy="7923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4358"/>
            <p:cNvCxnSpPr>
              <a:stCxn id="53" idx="0"/>
              <a:endCxn id="63" idx="2"/>
            </p:cNvCxnSpPr>
            <p:nvPr/>
          </p:nvCxnSpPr>
          <p:spPr>
            <a:xfrm flipH="1" flipV="1" rot="5400000">
              <a:off x="6157440" y="2123280"/>
              <a:ext cx="293760" cy="7923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4356"/>
            <p:cNvCxnSpPr>
              <a:stCxn id="66" idx="0"/>
              <a:endCxn id="67" idx="2"/>
            </p:cNvCxnSpPr>
            <p:nvPr/>
          </p:nvCxnSpPr>
          <p:spPr>
            <a:xfrm flipV="1" rot="16200000">
              <a:off x="3381840" y="1725120"/>
              <a:ext cx="293760" cy="158868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4354"/>
            <p:cNvCxnSpPr>
              <a:stCxn id="69" idx="0"/>
              <a:endCxn id="67" idx="2"/>
            </p:cNvCxnSpPr>
            <p:nvPr/>
          </p:nvCxnSpPr>
          <p:spPr>
            <a:xfrm flipV="1">
              <a:off x="2734560" y="2372760"/>
              <a:ext cx="1800" cy="2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4352"/>
            <p:cNvCxnSpPr>
              <a:stCxn id="58" idx="0"/>
              <a:endCxn id="67" idx="2"/>
            </p:cNvCxnSpPr>
            <p:nvPr/>
          </p:nvCxnSpPr>
          <p:spPr>
            <a:xfrm flipH="1" flipV="1" rot="5400000">
              <a:off x="1794960" y="1726560"/>
              <a:ext cx="293760" cy="158580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4350"/>
            <p:cNvCxnSpPr>
              <a:stCxn id="63" idx="0"/>
              <a:endCxn id="72" idx="2"/>
            </p:cNvCxnSpPr>
            <p:nvPr/>
          </p:nvCxnSpPr>
          <p:spPr>
            <a:xfrm flipV="1" rot="16200000">
              <a:off x="5562360" y="649080"/>
              <a:ext cx="293760" cy="198252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4348"/>
            <p:cNvCxnSpPr>
              <a:stCxn id="67" idx="0"/>
              <a:endCxn id="72" idx="2"/>
            </p:cNvCxnSpPr>
            <p:nvPr/>
          </p:nvCxnSpPr>
          <p:spPr>
            <a:xfrm flipH="1" flipV="1" rot="5400000">
              <a:off x="3579480" y="648360"/>
              <a:ext cx="293760" cy="1983960"/>
            </a:xfrm>
            <a:prstGeom prst="bentConnector3">
              <a:avLst>
                <a:gd name="adj1" fmla="val 38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" name="_s14344"/>
            <p:cNvSpPr/>
            <p:nvPr/>
          </p:nvSpPr>
          <p:spPr>
            <a:xfrm>
              <a:off x="4036680" y="90792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nfolyama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14345"/>
            <p:cNvSpPr/>
            <p:nvPr/>
          </p:nvSpPr>
          <p:spPr>
            <a:xfrm>
              <a:off x="2054880" y="178704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rmati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14347"/>
            <p:cNvSpPr/>
            <p:nvPr/>
          </p:nvSpPr>
          <p:spPr>
            <a:xfrm>
              <a:off x="6020280" y="178704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yel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14351"/>
            <p:cNvSpPr/>
            <p:nvPr/>
          </p:nvSpPr>
          <p:spPr>
            <a:xfrm>
              <a:off x="468360" y="266652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apfok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14353"/>
            <p:cNvSpPr/>
            <p:nvPr/>
          </p:nvSpPr>
          <p:spPr>
            <a:xfrm>
              <a:off x="2054880" y="266652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özépfok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4355"/>
            <p:cNvSpPr/>
            <p:nvPr/>
          </p:nvSpPr>
          <p:spPr>
            <a:xfrm>
              <a:off x="3641760" y="2666520"/>
              <a:ext cx="1360080" cy="586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elt szint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_s14357"/>
            <p:cNvSpPr/>
            <p:nvPr/>
          </p:nvSpPr>
          <p:spPr>
            <a:xfrm>
              <a:off x="5228640" y="2666520"/>
              <a:ext cx="135828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g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4359"/>
            <p:cNvSpPr/>
            <p:nvPr/>
          </p:nvSpPr>
          <p:spPr>
            <a:xfrm>
              <a:off x="6813360" y="2666520"/>
              <a:ext cx="135864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ém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4361"/>
            <p:cNvSpPr/>
            <p:nvPr/>
          </p:nvSpPr>
          <p:spPr>
            <a:xfrm>
              <a:off x="1374840" y="3545640"/>
              <a:ext cx="1358280" cy="5860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C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14363"/>
            <p:cNvSpPr/>
            <p:nvPr/>
          </p:nvSpPr>
          <p:spPr>
            <a:xfrm>
              <a:off x="1374840" y="4425120"/>
              <a:ext cx="1358280" cy="5860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CDL 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14365"/>
            <p:cNvSpPr/>
            <p:nvPr/>
          </p:nvSpPr>
          <p:spPr>
            <a:xfrm>
              <a:off x="6133320" y="3545640"/>
              <a:ext cx="135864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ezdő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14367"/>
            <p:cNvSpPr/>
            <p:nvPr/>
          </p:nvSpPr>
          <p:spPr>
            <a:xfrm>
              <a:off x="6133320" y="4425120"/>
              <a:ext cx="1358640" cy="586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alad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72000" y="5715000"/>
            <a:ext cx="43178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8:13:02Z</dcterms:created>
  <dc:creator>.</dc:creator>
  <dc:description/>
  <dc:language>en-US</dc:language>
  <cp:lastModifiedBy>Rokobauer József</cp:lastModifiedBy>
  <dcterms:modified xsi:type="dcterms:W3CDTF">2008-05-21T08:58:03Z</dcterms:modified>
  <cp:revision>17</cp:revision>
  <dc:subject/>
  <dc:title>Tanfolyami kínálatunkból</dc:title>
</cp:coreProperties>
</file>