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5B3-5E2D-4850-AE8A-107ECC1F4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2B1-287F-40DE-B682-0E2DA635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8F1-3761-4187-86CA-DD0A0582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644-CF98-422B-838E-D13C490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9A1-9DFC-4F01-B94E-22C8A403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B82-B973-4882-B27F-6D21BA9A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774-BAA5-43C4-9B7D-3967D49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B7A-9153-4124-AF39-89AAEB2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784-9F3C-49BE-829D-9D1E8F2A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DD8-90F4-45A6-AADB-305C578D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BA7-88EB-4DA4-A662-30EB775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AC8-DBE3-4854-B9D9-3CBDA14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637-046A-4BE1-B29C-3ACA4D5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A686-253F-4AD7-9EFE-481D8153344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0"/>
            <a:ext cx="1295280" cy="609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S00554_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2070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1523880"/>
            <a:ext cx="5715000" cy="3810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265284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.</cp:lastModifiedBy>
  <dcterms:modified xsi:type="dcterms:W3CDTF">2003-05-25T14:32:34Z</dcterms:modified>
  <cp:revision>5</cp:revision>
  <dc:subject>ECDL</dc:subject>
  <dc:title>Prezentáció forrás, 40.feladat</dc:title>
</cp:coreProperties>
</file>