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D0DA-3FAF-4C08-A185-91A9B1AC6F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ünnepélyes díjkiosztó tervezett kezdési időpontja: 18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gnyitó beszédet Dr. Kiss Ödön polgármester mond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yszín a futballpálya, rossz idő esetén a tornate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 utcabál rossz idő esetén elmar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4000" y="1989000"/>
            <a:ext cx="1440000" cy="2880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360" y="24678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után – szomszéd települések barátságos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1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általános és középiskolások futballmér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úlius 2. dél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 – fut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240048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2. délután – úszó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el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ő</a:t>
            </a: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t – kerékpárvers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július 3. délután – ünnepélyes díjkiosz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21:11:07Z</dcterms:created>
  <dc:creator>NJSZT</dc:creator>
  <dc:description/>
  <dc:language>en-US</dc:language>
  <cp:lastModifiedBy>.</cp:lastModifiedBy>
  <dcterms:modified xsi:type="dcterms:W3CDTF">2003-05-25T09:18:37Z</dcterms:modified>
  <cp:revision>11</cp:revision>
  <dc:subject>ECDL</dc:subject>
  <dc:title>Prezentáció forrás, 23.feladat</dc:title>
</cp:coreProperties>
</file>