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1FD-13DC-4056-A139-D3F32854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0FF-A5A4-47DA-B08D-BF421280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1E6-24EF-4B67-94E7-C947CFA1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46F6-9B5A-4C55-B0E9-C9244C9C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30E-F1B6-4EE1-BE9E-5466823D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7DC-989D-41CC-8596-C3FD5176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455-A964-4C7A-A276-3672BFD5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DEA-6953-4C57-B076-E3107A8A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C2D-44C8-4412-93CC-58BD7590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59F-30AD-4A35-A066-A5374B34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885-7963-4626-94E1-CBBD185D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B11-E3CF-457B-900F-F5E52477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DE04-B05B-4749-AFCB-96D24D321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öld" descr=""/>
          <p:cNvPicPr/>
          <p:nvPr/>
        </p:nvPicPr>
        <p:blipFill>
          <a:blip r:embed="rId1"/>
          <a:stretch/>
        </p:blipFill>
        <p:spPr>
          <a:xfrm>
            <a:off x="3336840" y="2193840"/>
            <a:ext cx="24685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laton" descr=""/>
          <p:cNvPicPr/>
          <p:nvPr/>
        </p:nvPicPr>
        <p:blipFill>
          <a:blip r:embed="rId1"/>
          <a:stretch/>
        </p:blipFill>
        <p:spPr>
          <a:xfrm>
            <a:off x="2965320" y="2324160"/>
            <a:ext cx="3213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19:51:07Z</dcterms:created>
  <dc:creator>NJSZT</dc:creator>
  <dc:description/>
  <dc:language>en-US</dc:language>
  <cp:lastModifiedBy>.</cp:lastModifiedBy>
  <dcterms:modified xsi:type="dcterms:W3CDTF">2003-05-26T21:25:25Z</dcterms:modified>
  <cp:revision>2</cp:revision>
  <dc:subject>ECDL</dc:subject>
  <dc:title>Prezentáció forrás, 4b.feladat</dc:title>
</cp:coreProperties>
</file>