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A200-FC5D-4657-BC8E-396B97BC0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CAC7-D00E-464C-8CD2-031E462F6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AA08-734C-4B02-91CE-465370CC4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149F-7ECA-47ED-B170-284EAA8C4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4998-406C-48F0-9D41-FEF60DEA4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46B3-CEE9-4A28-996A-3A2DCC21A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E695-926A-4292-B0F5-5D8BFDA32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1126-39FD-47CD-86EB-60CB57283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FC85-BBB4-4E17-9D16-8722AF9BD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D8A1-BDA9-40EA-B611-8D11EEF4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48F7-AF7E-44BE-A320-6B5A7ABE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6485-93AE-4F9B-943D-C0B8B0E3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277480" cy="611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0687E-61C7-485E-96CA-384C4A3703A8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z XXX-Komplex szolgáltatóház tevékenységi körei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5f5f5f"/>
                </a:solidFill>
                <a:latin typeface="Times New Roman"/>
              </a:rPr>
              <a:t>Adotanácsad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5f5f5f"/>
                </a:solidFill>
                <a:latin typeface="Times New Roman"/>
              </a:rPr>
              <a:t>Befektetsi tanácsad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5f5f5f"/>
                </a:solidFill>
                <a:latin typeface="Times New Roman"/>
              </a:rPr>
              <a:t>Egyéni válalkozók, társaságok könyvite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5f5f5f"/>
                </a:solidFill>
                <a:latin typeface="Times New Roman"/>
              </a:rPr>
              <a:t>Jogi ügyintéz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5f5f5f"/>
                </a:solidFill>
                <a:latin typeface="Times New Roman"/>
              </a:rPr>
              <a:t>Ingatlanközvetí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5f5f5f"/>
                </a:solidFill>
                <a:latin typeface="Times New Roman"/>
              </a:rPr>
              <a:t>Nyomdai szolgáltatás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5f5f5f"/>
                </a:solidFill>
                <a:latin typeface="Times New Roman"/>
              </a:rPr>
              <a:t>Szöveg- és kiadványszekresz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5f5f5f"/>
                </a:solidFill>
                <a:latin typeface="Times New Roman"/>
              </a:rPr>
              <a:t>Rendezvények, konferenciák lebonyolitá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5f5f5f"/>
                </a:solidFill>
                <a:latin typeface="Times New Roman"/>
              </a:rPr>
              <a:t>Reklám- és marketingtevékenysé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5f5f5f"/>
                </a:solidFill>
                <a:latin typeface="Times New Roman"/>
              </a:rPr>
              <a:t>Utazásiiro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5f5f5f"/>
                </a:solidFill>
                <a:latin typeface="Times New Roman"/>
              </a:rPr>
              <a:t>Speciális egyéni szogláltatás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A Szolgáltatóház bevétel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-ben a főbb tevékenységekbő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 Szolgáltatóház partnerei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2T23:21:36Z</dcterms:created>
  <dc:creator>NJSZT</dc:creator>
  <dc:description/>
  <dc:language>en-US</dc:language>
  <cp:lastModifiedBy>.</cp:lastModifiedBy>
  <dcterms:modified xsi:type="dcterms:W3CDTF">2003-05-24T22:05:54Z</dcterms:modified>
  <cp:revision>10</cp:revision>
  <dc:subject>ECDL</dc:subject>
  <dc:title>Prezentáció forrás, 10.feladat</dc:title>
</cp:coreProperties>
</file>