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546-B319-4979-928D-EFBB54A8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2A4-1A43-49A0-9735-CCCC0CE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1F7-F0D3-4EEF-86C8-C4A0F6DD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16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477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9C6-9027-4672-A099-4BC0BA12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506-31E3-4903-B930-87713A0D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FE4-2E55-4939-9260-FDA6AC5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9DC-6C44-493A-BB3F-A6765E8D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D5F-C7A3-4D2A-BFE7-D28E1478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4FF-15EA-4B9A-9A14-DB4D4315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A69-B060-4C27-AE83-650D1D1B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0E3-19FF-4704-A71B-8296675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5F7-9975-4181-88B6-6DC37C6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4E38-44DB-4A3E-A5C3-D4F7B62F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368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7908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6450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9000"/>
            <a:ext cx="647640" cy="5400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52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85768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09880" y="6318360"/>
            <a:ext cx="64800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6244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0829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22868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47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500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6756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620120" y="6318360"/>
            <a:ext cx="647640" cy="53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6240" y="45720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zenzációs karácsonyi vásár az XXX játékboltb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ársasjátékok 30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vó babák 25% engedménny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űanyag építőjátékok nagy választé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z országban egyedülálló modellvasút 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609480"/>
            <a:ext cx="4572000" cy="1067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ímü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XX Játékb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zékesfehérvár, Zsiráf köz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el.: 999-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ellemes karácsonyi ünnepeket kívánunk minden kedves vásárlónkna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9:35:32Z</dcterms:created>
  <dc:creator>NJSZT</dc:creator>
  <dc:description/>
  <dc:language>en-US</dc:language>
  <cp:lastModifiedBy>.</cp:lastModifiedBy>
  <dcterms:modified xsi:type="dcterms:W3CDTF">2003-05-25T13:46:08Z</dcterms:modified>
  <cp:revision>9</cp:revision>
  <dc:subject>ECDL</dc:subject>
  <dc:title>Prezentáció forrás, 34.feladat</dc:title>
</cp:coreProperties>
</file>