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525000" cy="647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689-464C-4A49-BCA1-FB856C8E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A1E-900E-4273-A37A-E17EE35D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B41-852D-440F-99B7-43C6BD6A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168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9120" y="237456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424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168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9120" y="4141800"/>
            <a:ext cx="260676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C6B-ECDD-47F8-9CB3-4702401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0D5-E541-4E12-83EB-B55AF3D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613-EFC8-4C55-B2B5-7F0CEFE7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EE2-750F-486C-B408-FB0778DC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A2A-354A-427A-A9E7-9E9CEBCF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4240" y="1079640"/>
            <a:ext cx="80964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1BC-5795-43DF-97C8-7D5A52A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185-A7F7-45E4-9BF4-4081ACBC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414180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D49-516D-4179-AD2B-8BF11753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2374560"/>
            <a:ext cx="3951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4240" y="4141800"/>
            <a:ext cx="8096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1C3-AF4B-4468-AFC0-9555B80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5900400"/>
            <a:ext cx="198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5900400"/>
            <a:ext cx="3016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5900400"/>
            <a:ext cx="1984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C99C-D5CD-45A1-BF19-50E6EEFA3D8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47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00" y="2858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mérés az internet-használók kör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 felmérésben résztvev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2374560"/>
            <a:ext cx="8096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zépiskolás diák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iskolások, egyetemis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llemi foglalkozás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z internetet rendszeresen használó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6560" y="2519280"/>
          <a:ext cx="29260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19280"/>
                    <a:ext cx="29260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33680" y="2519280"/>
          <a:ext cx="292572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50120" y="2519280"/>
          <a:ext cx="2925720" cy="25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0120" y="2519280"/>
                    <a:ext cx="29257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4920" y="5456160"/>
            <a:ext cx="317520" cy="289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4920" y="5024520"/>
            <a:ext cx="31752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3160" y="4952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3160" y="5384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aponta a hálózaton töltött idő az internetezők köré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2374920"/>
          <a:ext cx="8096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374920"/>
                    <a:ext cx="8096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07964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lőrejelzés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3505320" cy="1523880"/>
          </a:xfrm>
          <a:prstGeom prst="rightArrow">
            <a:avLst>
              <a:gd name="adj1" fmla="val 37704"/>
              <a:gd name="adj2" fmla="val 6352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7:42:55Z</dcterms:created>
  <dc:creator>NJSZT</dc:creator>
  <dc:description/>
  <dc:language>en-US</dc:language>
  <cp:lastModifiedBy>.</cp:lastModifiedBy>
  <dcterms:modified xsi:type="dcterms:W3CDTF">2003-05-25T15:48:40Z</dcterms:modified>
  <cp:revision>9</cp:revision>
  <dc:subject>ECDL</dc:subject>
  <dc:title>Prezentáció forrás, 49.feladat</dc:title>
</cp:coreProperties>
</file>