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D674-AD2E-4E81-AA69-4B35BDC2D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6185-6108-4730-8B87-8CEDC5158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53ED-7CF6-4FA4-A1F1-C289C218C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D5E9-5440-414D-81FD-48115749E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89AD-E72A-41C2-8D31-DD6C865E8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0C51-A9F2-4987-9D87-7AE7845F5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2240-45E9-44F8-A3C1-362858A03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8289-31D9-4CB6-9B94-BEA378D01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6914-F50C-41CA-AE8B-76E662A11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00B4-B334-469E-9323-4CC4F988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6576-1907-45A7-983E-0E1BCEFCD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B838-279F-4D2A-A4AB-8B348FAF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VÁROSI T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708660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69BF8-665D-486B-B6D8-B35CF3CAF2A1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361944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8AF50-F48B-47F9-BBA3-2C89D6138DE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z oldalak tartal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1 Tartalomjegyzé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2 TV-műs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3 Hirdet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4 Helyi hír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5 Hírek a nagyvilágbó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E35781-14B9-4C1C-BC38-2466B719E237}" type="datetime1">
              <a:rPr lang="en-US"/>
              <a:t>07/30/26</a:t>
            </a:fld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rdeté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városi, 3 szobás, gázfütéses lakás eladó. Tel.: 111-1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zürke perzsacicák eladók. Tel.: 222-22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ol nyelvből korrepetálást vállalok. Tel.: 333-33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koda Favorit, megkímélt állapotban eladó. Tel.: 444-44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C04E95-A094-4FE4-AA8E-83FE74C34FB2}" type="datetime1">
              <a:rPr lang="en-US"/>
              <a:t>07/30/26</a:t>
            </a:fld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városi TV mai műso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512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7.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írek, időjár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512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7.2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árosunk az elmúlt 10 évben 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kumentumfil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512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.0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ír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512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.1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klá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512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.2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efil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512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.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z éj leple alatt 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merikai kri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44A1AF-8BA3-4CC8-8687-ACC5AC2A99D1}" type="datetime1">
              <a:rPr lang="en-US"/>
              <a:t>07/30/26</a:t>
            </a:fld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BD04918_" descr=""/>
          <p:cNvPicPr/>
          <p:nvPr/>
        </p:nvPicPr>
        <p:blipFill>
          <a:blip r:embed="rId1"/>
          <a:stretch/>
        </p:blipFill>
        <p:spPr>
          <a:xfrm>
            <a:off x="3162240" y="2038320"/>
            <a:ext cx="2819520" cy="27799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lyi hír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gnap városunkba látogatott a lengyel munkaüygi miniszter. A tiszteletére tartott fogadás után megtekintette városunk nevezetesége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héten elkészül az Fő-téri szobor rekonstrukciója. A munkálatokat Kő Pál szobrász végz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03ABA1-81D5-44AA-A0F8-7CEBF9F9262E}" type="datetime1">
              <a:rPr lang="en-US"/>
              <a:t>07/30/26</a:t>
            </a:fld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írek a nagyvilágbó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A99DDA-9CA7-495E-BD69-EC78D14E815B}" type="datetime1">
              <a:rPr lang="en-US"/>
              <a:t>07/30/26</a:t>
            </a:fld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ézettségünk az elmúlt hé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D7BDD2-5E82-4E85-9723-0F3CA4C23835}" type="datetime1">
              <a:rPr lang="en-US"/>
              <a:t>07/30/26</a:t>
            </a:fld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3:49:37Z</dcterms:created>
  <dc:creator>NJSZT</dc:creator>
  <dc:description/>
  <dc:language>en-US</dc:language>
  <cp:lastModifiedBy>.</cp:lastModifiedBy>
  <dcterms:modified xsi:type="dcterms:W3CDTF">2003-05-25T08:37:34Z</dcterms:modified>
  <cp:revision>13</cp:revision>
  <dc:subject>ECDL</dc:subject>
  <dc:title>Prezentáció forrás, 20.feladat</dc:title>
</cp:coreProperties>
</file>