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260-EE86-4094-83AC-C49BE273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46D-C8DB-4380-8EF2-C5DE41A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1B2-4593-4233-80D6-A552B89E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F31-54DB-4AE0-A4D0-8A7A41B2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9DD-BF96-48AF-840C-F8935738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53F-3CBF-477A-9252-5EE305E5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BDA-0F2F-4642-86D3-FA388D5C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20C-07AE-414B-BF38-49A9DBEE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F36-299F-42BD-BEEE-621AF548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F78-0BED-40AA-BCBD-7831C2D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43D-849A-4471-A9F6-D261B6B5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BF2-84F8-47E5-AE5B-034638F5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3F27-67DD-4D8A-B7E2-36E1207BE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4360" y="1941480"/>
            <a:ext cx="7703280" cy="4102200"/>
            <a:chOff x="684360" y="1941480"/>
            <a:chExt cx="7703280" cy="4102200"/>
          </a:xfrm>
        </p:grpSpPr>
        <p:cxnSp>
          <p:nvCxnSpPr>
            <p:cNvPr id="43" name="_s2061"/>
            <p:cNvCxnSpPr>
              <a:stCxn id="44" idx="0"/>
              <a:endCxn id="45" idx="2"/>
            </p:cNvCxnSpPr>
            <p:nvPr/>
          </p:nvCxnSpPr>
          <p:spPr>
            <a:xfrm flipV="1" rot="16200000">
              <a:off x="5473800" y="2644200"/>
              <a:ext cx="820800" cy="269676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2060"/>
            <p:cNvCxnSpPr>
              <a:stCxn id="47" idx="0"/>
              <a:endCxn id="45" idx="2"/>
            </p:cNvCxnSpPr>
            <p:nvPr/>
          </p:nvCxnSpPr>
          <p:spPr>
            <a:xfrm rot="16200000">
              <a:off x="4125600" y="3992400"/>
              <a:ext cx="8208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2059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2777040" y="2644560"/>
              <a:ext cx="820800" cy="269640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2055"/>
            <p:cNvSpPr/>
            <p:nvPr/>
          </p:nvSpPr>
          <p:spPr>
            <a:xfrm>
              <a:off x="3380400" y="194148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dir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2056"/>
            <p:cNvSpPr/>
            <p:nvPr/>
          </p:nvSpPr>
          <p:spPr>
            <a:xfrm>
              <a:off x="684360" y="440280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2057"/>
            <p:cNvSpPr/>
            <p:nvPr/>
          </p:nvSpPr>
          <p:spPr>
            <a:xfrm>
              <a:off x="3380400" y="440280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_s2058"/>
            <p:cNvSpPr/>
            <p:nvPr/>
          </p:nvSpPr>
          <p:spPr>
            <a:xfrm>
              <a:off x="6076800" y="440280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0:01:16Z</dcterms:created>
  <dc:creator>NJSZT</dc:creator>
  <dc:description/>
  <dc:language>en-US</dc:language>
  <cp:lastModifiedBy>Rokobauer József</cp:lastModifiedBy>
  <dcterms:modified xsi:type="dcterms:W3CDTF">2008-05-14T14:20:47Z</dcterms:modified>
  <cp:revision>2</cp:revision>
  <dc:subject>ECDL</dc:subject>
  <dc:title>Prezentáció forrás, 8b.feladat</dc:title>
</cp:coreProperties>
</file>