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175-52C9-4DDD-AC0F-397CD933F6D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C12-1D5D-42BB-9CE6-E02E5EC2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483-26CD-462C-AF61-EF10DF79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5F2-CE10-499F-A11B-17CE4059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605-A192-4F77-A5E4-5D57F682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C62-E20C-4979-89D4-C9A8ED73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E17-A050-40D5-B562-75BCC8C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C37-AF5E-444C-A089-9BBADF1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F0E-7C4E-4E40-9F88-ACC88710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94F-1A90-4DE7-B906-4216881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03E-1D3E-4102-A443-A287EA0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578-77DF-4556-8EFC-9BBCAFF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17E-2E97-44DD-9BF0-FC11DFB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92B5-2CEE-4EC3-B3CB-588717EA30C0}" type="slidenum"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7:27:23Z</dcterms:modified>
  <cp:revision>14</cp:revision>
  <dc:subject>ECDL</dc:subject>
  <dc:title>Prezentáció forrás, 14.feladat</dc:title>
</cp:coreProperties>
</file>