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7B74-C39C-4E5C-9E4A-966B50B8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BD45-72EF-4765-A00A-75F8E88B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39AA-BB27-40B0-8C43-7B2335B3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07F5-57CE-45CE-8AFE-AFE57131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3867-E06C-4AAA-8D99-117A9B20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E4BE-4BBC-487A-8CB5-9EC550A1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1D0A-AD11-4456-8B77-7165AF82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B3B9-9140-4190-8755-B6BB8B6D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042B-9396-4DE8-B428-00D7B753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40FF-6AAF-4D78-A02C-08B0424B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ECDF-8661-407A-98F5-14693460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EB16-1015-4405-9AC1-F7FA8C71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152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2F04-F827-4746-9FB0-67FCFEA158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61160" y="1066680"/>
            <a:ext cx="46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ÚRAAJÁNLATOK 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Velencei-tó és környé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4200" y="4267080"/>
            <a:ext cx="236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encei-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encei-hegy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á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árd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62000" y="4267080"/>
            <a:ext cx="204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ákoz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ukor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ad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ékesfehérvá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velenceito" descr=""/>
          <p:cNvPicPr/>
          <p:nvPr/>
        </p:nvPicPr>
        <p:blipFill>
          <a:blip r:embed="rId1"/>
          <a:stretch/>
        </p:blipFill>
        <p:spPr>
          <a:xfrm>
            <a:off x="4800600" y="2362320"/>
            <a:ext cx="32338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76080" y="969840"/>
            <a:ext cx="599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T</a:t>
            </a:r>
            <a:r>
              <a:rPr b="1" lang="hu-HU" sz="4400" spc="-1" strike="noStrike">
                <a:solidFill>
                  <a:srgbClr val="ff9900"/>
                </a:solidFill>
                <a:latin typeface="Times New Roman"/>
              </a:rPr>
              <a:t>ÚRAAJÁNLATOK 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Times New Roman"/>
              </a:rPr>
              <a:t>Bükki Nemzeti Pa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4560" y="4267080"/>
            <a:ext cx="174132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ilvásvá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llafü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1200" y="4267080"/>
            <a:ext cx="20642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arvask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ko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kolctapol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600200" y="4038480"/>
          <a:ext cx="6095880" cy="21333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úraajánl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550 Ft/f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000 Ft/f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000 Ft/f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.000 Ft/f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600200" y="4038480"/>
          <a:ext cx="6095880" cy="21333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úraajánl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9:31:13Z</dcterms:created>
  <dc:creator>NJSZT</dc:creator>
  <dc:description/>
  <dc:language>en-US</dc:language>
  <cp:lastModifiedBy>.</cp:lastModifiedBy>
  <dcterms:modified xsi:type="dcterms:W3CDTF">2003-05-25T15:00:17Z</dcterms:modified>
  <cp:revision>12</cp:revision>
  <dc:subject>ECDL</dc:subject>
  <dc:title>Prezentáció forrás, 45.feladat</dc:title>
</cp:coreProperties>
</file>