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655-25DB-4A53-9D5A-A637745F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9BC-7333-4018-B76B-52620449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541-8160-4608-88FA-05122351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3BE-6A7F-46E8-AB41-BD5A53ED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FF5-270F-4A08-9586-A171C07A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BF6-DDBB-475C-9CD7-A0330E95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CC2-DA28-4914-8B37-149A1254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EF5-7256-44AE-B1D2-5767358E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0D6-3385-425C-9327-E7010B36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EC2-2B3C-4FEF-8279-C593AD98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43F-B8C5-40FA-8EAE-14AC7D55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D3C-393C-4919-8041-112B6213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733920" y="30492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1008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5740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33920" y="186696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1008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8660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088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05740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733920" y="342900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41008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08660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8088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05740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733920" y="499104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41008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08660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E692-7351-491A-9DD7-A5704C0E2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68600" y="3017880"/>
            <a:ext cx="58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zenzációs csempe és padlóburkoló választék az XXX CSEMPEBOLTB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368280"/>
            <a:ext cx="83822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ZLETÜNKBE KIVÁLÓ MINŐSÉGŰ OLASZ CSEMPÉK ÉRKEZTEK. tÖBB MINT 80 KÜLÖNBÖZŐ CSEMPE ÉS PADLÓBURKOLÓ KÖZÜL VÁLASZTHAT, A LEGKEDVEZŐBB ÁRTÓL A LEGIGÉNYESEBB MINŐSÉG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68600" y="1141560"/>
            <a:ext cx="58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ímünk: Szeged, Fogas út 9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999-99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1600" y="1371600"/>
            <a:ext cx="2879640" cy="21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lasz márványmintás cse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000 Ft/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2971800"/>
            <a:ext cx="2879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ránitmintás fagyálló tapos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500 Ft/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9:44:14Z</dcterms:created>
  <dc:creator>NJSZT</dc:creator>
  <dc:description/>
  <dc:language>en-US</dc:language>
  <cp:lastModifiedBy>.</cp:lastModifiedBy>
  <dcterms:modified xsi:type="dcterms:W3CDTF">2003-05-03T16:13:02Z</dcterms:modified>
  <cp:revision>11</cp:revision>
  <dc:subject>ECDL</dc:subject>
  <dc:title>Prezentáció forrás, 39.feladat</dc:title>
</cp:coreProperties>
</file>