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48BD-3481-4B5B-A0F2-F83C8C8C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2E5-3D21-4C8F-BB30-FE47EC88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2C32-AF69-4D91-884B-B002A9AC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5E5E-281D-4074-BEE7-F1554FE7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85E-A944-4AE6-80CF-9D4B8391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111-FB1F-4A7F-A577-CD69F860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A5A0-77F9-44B5-8EC0-EC3DA1B9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FEF8-8F51-4CBA-AAA3-590EF122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D581-0CC0-4FDE-8851-C2D023AF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5795-FB19-418A-863F-0B100664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FA5-FCD2-4CEC-97B5-2991B844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8BF2-CECA-459E-A354-46F6C69E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6D78-6928-4903-BA9C-338FEADE2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32000" y="198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198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342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32000" y="342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97240" y="1401840"/>
            <a:ext cx="2492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62120" cy="685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7200" y="853920"/>
            <a:ext cx="517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Szolgáltatásain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38520" y="2602080"/>
            <a:ext cx="546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ckázatelem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ektetési tanácsa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őségbiztosí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állalatirányító rendszerek telepít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1979640"/>
          <a:ext cx="776916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79640"/>
                    <a:ext cx="776916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1:05:30Z</dcterms:created>
  <dc:creator>NJSZT</dc:creator>
  <dc:description/>
  <dc:language>en-US</dc:language>
  <cp:lastModifiedBy>.</cp:lastModifiedBy>
  <dcterms:modified xsi:type="dcterms:W3CDTF">2003-05-03T17:35:29Z</dcterms:modified>
  <cp:revision>4</cp:revision>
  <dc:subject>ECDL</dc:subject>
  <dc:title>Prezentáció forrás, 48.feladat</dc:title>
</cp:coreProperties>
</file>