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5F21-D043-433E-BEEF-4179FFC7C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D56-F972-4322-90B6-87942BD4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79E-5359-4BE1-82AA-C2A6CA79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026-67A8-4CF2-B90F-FE8550BD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444-D49D-4A22-8A96-319D6F13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B25-3CA4-46C0-A77F-281ADA2E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BE7-AB8B-461B-846B-30FA580C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AA9-93B8-43DC-A4FC-7B075AD5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BCB-F691-4C65-BB4E-1A1F865B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BA7-2959-4E16-8634-6A4B92BA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40D-8D7C-45BC-81D5-D6DAD62D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E71-E7E4-4F30-AAC6-1A30E8C9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2D5-54AA-4EFD-B640-E70F83BC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7682-3FDA-4902-B5FD-A102A54CE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8911_" descr="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975_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E01686_" descr="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990720"/>
            <a:ext cx="1523880" cy="1371600"/>
          </a:xfrm>
          <a:custGeom>
            <a:avLst/>
            <a:gdLst>
              <a:gd name="textAreaLeft" fmla="*/ 237960 w 1523880"/>
              <a:gd name="textAreaRight" fmla="*/ 1413000 w 1523880"/>
              <a:gd name="textAreaTop" fmla="*/ 382680 h 1371600"/>
              <a:gd name="textAreaBottom" fmla="*/ 98892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6025"/>
                </a:moveTo>
                <a:lnTo>
                  <a:pt x="18045" y="6025"/>
                </a:ln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18045" y="15575"/>
                </a:lnTo>
                <a:lnTo>
                  <a:pt x="3375" y="15575"/>
                </a:lnTo>
                <a:close/>
              </a:path>
              <a:path w="21600" h="21600">
                <a:moveTo>
                  <a:pt x="0" y="6025"/>
                </a:moveTo>
                <a:lnTo>
                  <a:pt x="675" y="6025"/>
                </a:lnTo>
                <a:lnTo>
                  <a:pt x="675" y="15575"/>
                </a:lnTo>
                <a:lnTo>
                  <a:pt x="0" y="15575"/>
                </a:lnTo>
                <a:close/>
              </a:path>
              <a:path w="21600" h="21600">
                <a:moveTo>
                  <a:pt x="1350" y="6025"/>
                </a:moveTo>
                <a:lnTo>
                  <a:pt x="2700" y="6025"/>
                </a:lnTo>
                <a:lnTo>
                  <a:pt x="2700" y="15575"/>
                </a:lnTo>
                <a:lnTo>
                  <a:pt x="1350" y="155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NJSZT</dc:creator>
  <dc:description/>
  <dc:language>en-US</dc:language>
  <cp:lastModifiedBy>.</cp:lastModifiedBy>
  <dcterms:modified xsi:type="dcterms:W3CDTF">2003-03-25T17:01:23Z</dcterms:modified>
  <cp:revision>6</cp:revision>
  <dc:subject>ECDL</dc:subject>
  <dc:title>Prezentáció forrás, 21.feladat</dc:title>
</cp:coreProperties>
</file>