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CED-25CD-4794-A752-960A0AA9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6E6-4C2A-47D7-BC01-3FE67F17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1EF-3C0F-4A9A-9731-BE1287BC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399-5098-41E1-AB93-2D0EA245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2F56-59AE-4928-A21E-3497AA38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22C-3FE3-49B6-9BDC-6F47E253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F56-BF2C-4F97-8930-C63B0B5B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1E5-8B7B-41B6-B4A9-A2D93E67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B14-1143-4020-AD8E-7826C53E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44A-18EB-475A-8BFB-3466EB57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A7C-E11A-498F-B475-3B295B0D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4AC-49A8-4410-81AB-8CFC2B0B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ÁROSI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E100-97A4-422F-8382-31F1BA968347}" type="datetime">
              <a:rPr b="0" lang="en-US" sz="1400" spc="-1" strike="noStrike">
                <a:solidFill>
                  <a:srgbClr val="ffcccc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1944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26C2-24F6-4B31-A6AD-B85C20E0596D}" type="slidenum">
              <a:rPr b="0" lang="en-US" sz="1400" spc="-1" strike="noStrike">
                <a:solidFill>
                  <a:srgbClr val="ffcc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oldalak 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1 Tartalomjegy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2 TV-mű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3 Hird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4 Helyi 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5 Hírek a nagyvilág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B0E84-9126-46EE-A0C1-937CDE3AF8C9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árosi TV mai műs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, időjá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rosunk az elmúlt 10 évben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kumentum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e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éj leple alatt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erikai kr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6E4E7-62B2-4515-BD56-D00A78D597C9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városi, 3 szobás, gázfűtéses lakás eladó. Tel.: 111-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ürke perzsacicák eladók. Tel.: 222-2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ol nyelvből korrepetálást vállalok. Tel.: 333-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oda Favorit, megkímélt állapotban eladó. Tel.: 444-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D04918_" descr=""/>
          <p:cNvPicPr/>
          <p:nvPr/>
        </p:nvPicPr>
        <p:blipFill>
          <a:blip r:embed="rId1"/>
          <a:stretch/>
        </p:blipFill>
        <p:spPr>
          <a:xfrm>
            <a:off x="3162240" y="2038320"/>
            <a:ext cx="2819520" cy="277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5C9EA-0329-43D5-9124-A771ED797480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2E7E2-59DB-4D09-83D5-39D938A3463E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B1BB6-F456-4F67-AF4A-125FF5ECD3CB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ézettségünk az elmúlt hé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3DD60-6090-4EC6-B825-3887AB639856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49:37Z</dcterms:created>
  <dc:creator>NJSZT</dc:creator>
  <dc:description/>
  <dc:language>en-US</dc:language>
  <cp:lastModifiedBy>.</cp:lastModifiedBy>
  <dcterms:modified xsi:type="dcterms:W3CDTF">2003-03-25T14:20:11Z</dcterms:modified>
  <cp:revision>6</cp:revision>
  <dc:subject>ECDL</dc:subject>
  <dc:title>Prezentáció forrás, 19.feladat</dc:title>
</cp:coreProperties>
</file>