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C49-AC31-4150-9B8C-207FDD28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6A1-57BA-49F4-AA52-F208EE6C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CE6-2A39-47BD-9602-38F346B0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8F2-0337-414D-BFCD-60DA6AD9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10C-185F-41B4-99C2-6E6F553C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03D-4847-4EE3-97C2-B3F855A7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A4E-B75E-4F38-9627-B5E31BC0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E9C-8753-4B3C-A8EF-70A1513B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831-47EA-453F-A11E-C9043EA2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2A0-C8EB-4096-A740-487641E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073-47C1-4D33-B4CF-22D19ACB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1D1-7CCA-46E0-B73A-C698A880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5760" y="165240"/>
            <a:ext cx="9914040" cy="65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A990-F5EF-400E-8532-2B008DFDA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nfolyami kínálatunk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ámítástechnikai alapismeretek, 2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övegszerkesztés, 3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áblázatkezelés, 36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zentációkészítés, 2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L, 15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ámítástechnikai szoftverüzemeltető, 25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ámítástechnikai programozó, 1200 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5240" y="6094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t az emelt szintű végzettség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00240" y="5078160"/>
            <a:ext cx="7415280" cy="1170000"/>
          </a:xfrm>
          <a:custGeom>
            <a:avLst/>
            <a:gdLst>
              <a:gd name="textAreaLeft" fmla="*/ 1122120 w 7415280"/>
              <a:gd name="textAreaRight" fmla="*/ 6293160 w 7415280"/>
              <a:gd name="textAreaTop" fmla="*/ 177120 h 1170000"/>
              <a:gd name="textAreaBottom" fmla="*/ 99288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65" y="21600"/>
                </a:lnTo>
                <a:lnTo>
                  <a:pt x="2735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127240" y="4013640"/>
            <a:ext cx="5560920" cy="1063800"/>
          </a:xfrm>
          <a:custGeom>
            <a:avLst/>
            <a:gdLst>
              <a:gd name="textAreaLeft" fmla="*/ 927720 w 5560920"/>
              <a:gd name="textAreaRight" fmla="*/ 4633200 w 5560920"/>
              <a:gd name="textAreaTop" fmla="*/ 177480 h 1063800"/>
              <a:gd name="textAreaBottom" fmla="*/ 886320 h 106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63" y="21600"/>
                </a:lnTo>
                <a:lnTo>
                  <a:pt x="3337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ámítástechnikai szoftverüzemelte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0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97360" y="1675440"/>
            <a:ext cx="3821040" cy="2338200"/>
          </a:xfrm>
          <a:custGeom>
            <a:avLst/>
            <a:gdLst>
              <a:gd name="textAreaLeft" fmla="*/ 1370880 w 3821040"/>
              <a:gd name="textAreaRight" fmla="*/ 2450160 w 3821040"/>
              <a:gd name="textAreaTop" fmla="*/ 838800 h 2338200"/>
              <a:gd name="textAreaBottom" fmla="*/ 149940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zámítástechnik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oz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950 ó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527040" y="907920"/>
            <a:ext cx="8667360" cy="4103280"/>
            <a:chOff x="527040" y="907920"/>
            <a:chExt cx="8667360" cy="4103280"/>
          </a:xfrm>
        </p:grpSpPr>
        <p:cxnSp>
          <p:nvCxnSpPr>
            <p:cNvPr id="49" name="_s10244"/>
            <p:cNvCxnSpPr>
              <a:stCxn id="50" idx="1"/>
              <a:endCxn id="51" idx="2"/>
            </p:cNvCxnSpPr>
            <p:nvPr/>
          </p:nvCxnSpPr>
          <p:spPr>
            <a:xfrm rot="10800000">
              <a:off x="6647040" y="3251880"/>
              <a:ext cx="253440" cy="146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245"/>
            <p:cNvCxnSpPr>
              <a:stCxn id="53" idx="1"/>
              <a:endCxn id="51" idx="2"/>
            </p:cNvCxnSpPr>
            <p:nvPr/>
          </p:nvCxnSpPr>
          <p:spPr>
            <a:xfrm rot="10800000">
              <a:off x="6647040" y="3251880"/>
              <a:ext cx="253440" cy="58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246"/>
            <p:cNvCxnSpPr>
              <a:stCxn id="55" idx="1"/>
              <a:endCxn id="56" idx="2"/>
            </p:cNvCxnSpPr>
            <p:nvPr/>
          </p:nvCxnSpPr>
          <p:spPr>
            <a:xfrm rot="10800000">
              <a:off x="1292760" y="3251880"/>
              <a:ext cx="253440" cy="146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247"/>
            <p:cNvCxnSpPr>
              <a:stCxn id="58" idx="1"/>
              <a:endCxn id="56" idx="2"/>
            </p:cNvCxnSpPr>
            <p:nvPr/>
          </p:nvCxnSpPr>
          <p:spPr>
            <a:xfrm rot="10800000">
              <a:off x="1292760" y="3251880"/>
              <a:ext cx="253440" cy="58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248"/>
            <p:cNvCxnSpPr>
              <a:stCxn id="60" idx="0"/>
              <a:endCxn id="61" idx="2"/>
            </p:cNvCxnSpPr>
            <p:nvPr/>
          </p:nvCxnSpPr>
          <p:spPr>
            <a:xfrm flipV="1" rot="16200000">
              <a:off x="7837200" y="2073600"/>
              <a:ext cx="293760" cy="891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49"/>
            <p:cNvCxnSpPr>
              <a:stCxn id="51" idx="0"/>
              <a:endCxn id="61" idx="2"/>
            </p:cNvCxnSpPr>
            <p:nvPr/>
          </p:nvCxnSpPr>
          <p:spPr>
            <a:xfrm flipH="1" flipV="1" rot="5400000">
              <a:off x="6946200" y="2073960"/>
              <a:ext cx="293760" cy="891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250"/>
            <p:cNvCxnSpPr>
              <a:stCxn id="64" idx="0"/>
              <a:endCxn id="65" idx="2"/>
            </p:cNvCxnSpPr>
            <p:nvPr/>
          </p:nvCxnSpPr>
          <p:spPr>
            <a:xfrm flipV="1" rot="16200000">
              <a:off x="3823560" y="1625760"/>
              <a:ext cx="293760" cy="178740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251"/>
            <p:cNvCxnSpPr>
              <a:stCxn id="67" idx="0"/>
              <a:endCxn id="65" idx="2"/>
            </p:cNvCxnSpPr>
            <p:nvPr/>
          </p:nvCxnSpPr>
          <p:spPr>
            <a:xfrm flipV="1">
              <a:off x="3077280" y="2372760"/>
              <a:ext cx="2160" cy="2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252"/>
            <p:cNvCxnSpPr>
              <a:stCxn id="56" idx="0"/>
              <a:endCxn id="65" idx="2"/>
            </p:cNvCxnSpPr>
            <p:nvPr/>
          </p:nvCxnSpPr>
          <p:spPr>
            <a:xfrm flipH="1" flipV="1" rot="5400000">
              <a:off x="2038320" y="1627560"/>
              <a:ext cx="293760" cy="17841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53"/>
            <p:cNvCxnSpPr>
              <a:stCxn id="61" idx="0"/>
              <a:endCxn id="70" idx="2"/>
            </p:cNvCxnSpPr>
            <p:nvPr/>
          </p:nvCxnSpPr>
          <p:spPr>
            <a:xfrm flipV="1" rot="16200000">
              <a:off x="6276600" y="524880"/>
              <a:ext cx="293760" cy="22305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254"/>
            <p:cNvCxnSpPr>
              <a:stCxn id="65" idx="0"/>
              <a:endCxn id="70" idx="2"/>
            </p:cNvCxnSpPr>
            <p:nvPr/>
          </p:nvCxnSpPr>
          <p:spPr>
            <a:xfrm flipH="1" flipV="1" rot="5400000">
              <a:off x="4046040" y="524520"/>
              <a:ext cx="293760" cy="223200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0" name="_s10255"/>
            <p:cNvSpPr/>
            <p:nvPr/>
          </p:nvSpPr>
          <p:spPr>
            <a:xfrm>
              <a:off x="4541760" y="90792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anfolyama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10256"/>
            <p:cNvSpPr/>
            <p:nvPr/>
          </p:nvSpPr>
          <p:spPr>
            <a:xfrm>
              <a:off x="2312280" y="178704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nformatik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10257"/>
            <p:cNvSpPr/>
            <p:nvPr/>
          </p:nvSpPr>
          <p:spPr>
            <a:xfrm>
              <a:off x="6773400" y="178704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yel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10258"/>
            <p:cNvSpPr/>
            <p:nvPr/>
          </p:nvSpPr>
          <p:spPr>
            <a:xfrm>
              <a:off x="527040" y="266652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lapfokú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10259"/>
            <p:cNvSpPr/>
            <p:nvPr/>
          </p:nvSpPr>
          <p:spPr>
            <a:xfrm>
              <a:off x="2312280" y="266652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középfokú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260"/>
            <p:cNvSpPr/>
            <p:nvPr/>
          </p:nvSpPr>
          <p:spPr>
            <a:xfrm>
              <a:off x="4097520" y="2666520"/>
              <a:ext cx="153000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melt szintű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0261"/>
            <p:cNvSpPr/>
            <p:nvPr/>
          </p:nvSpPr>
          <p:spPr>
            <a:xfrm>
              <a:off x="5882760" y="2666520"/>
              <a:ext cx="152820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ng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262"/>
            <p:cNvSpPr/>
            <p:nvPr/>
          </p:nvSpPr>
          <p:spPr>
            <a:xfrm>
              <a:off x="7665840" y="2666520"/>
              <a:ext cx="152856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ém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10263"/>
            <p:cNvSpPr/>
            <p:nvPr/>
          </p:nvSpPr>
          <p:spPr>
            <a:xfrm>
              <a:off x="1546920" y="3545640"/>
              <a:ext cx="152820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CD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10264"/>
            <p:cNvSpPr/>
            <p:nvPr/>
          </p:nvSpPr>
          <p:spPr>
            <a:xfrm>
              <a:off x="1546920" y="4425120"/>
              <a:ext cx="152820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CDL Star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10265"/>
            <p:cNvSpPr/>
            <p:nvPr/>
          </p:nvSpPr>
          <p:spPr>
            <a:xfrm>
              <a:off x="6900840" y="3545640"/>
              <a:ext cx="152856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kezdő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_s10266"/>
            <p:cNvSpPr/>
            <p:nvPr/>
          </p:nvSpPr>
          <p:spPr>
            <a:xfrm>
              <a:off x="6900840" y="4425120"/>
              <a:ext cx="152856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aladó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143680" y="5715000"/>
            <a:ext cx="485748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8:13:02Z</dcterms:created>
  <dc:creator>.</dc:creator>
  <dc:description/>
  <dc:language>en-US</dc:language>
  <cp:lastModifiedBy>Rokobauer József</cp:lastModifiedBy>
  <dcterms:modified xsi:type="dcterms:W3CDTF">2008-05-21T09:14:34Z</dcterms:modified>
  <cp:revision>19</cp:revision>
  <dc:subject/>
  <dc:title>Tanfolyami kínálatunkból</dc:title>
</cp:coreProperties>
</file>