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A72F-12EE-4C11-8B31-B4838E474BB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ünnepélyes díjkiosztó tervezett kezdési időpontja: 18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gnyitó beszédet Dr. Kiss Ödön polgármester mond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yszín a futballpálya, rossz idő esetén a tornate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utcabál rossz idő esetén elmar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989000"/>
            <a:ext cx="1440000" cy="2880000"/>
          </a:xfrm>
          <a:prstGeom prst="rect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04000" y="1989000"/>
            <a:ext cx="1440000" cy="2880000"/>
          </a:xfrm>
          <a:prstGeom prst="rect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360" y="246780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1. délután – szomszéd települések barátságos futballmér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1. dél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 – általános és középiskolások futballmér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2. dél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 – futó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0360" y="2400480"/>
            <a:ext cx="7924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2. délután – úszó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3. délel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tt – kerékpár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3. délután – ünnepélyes díjkiosztó, utcab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21:11:07Z</dcterms:created>
  <dc:creator>NJSZT</dc:creator>
  <dc:description/>
  <dc:language>en-US</dc:language>
  <cp:lastModifiedBy>.</cp:lastModifiedBy>
  <dcterms:modified xsi:type="dcterms:W3CDTF">2003-05-25T11:21:35Z</dcterms:modified>
  <cp:revision>12</cp:revision>
  <dc:subject>ECDL</dc:subject>
  <dc:title>Prezentáció forrás, 24.feladat</dc:title>
</cp:coreProperties>
</file>