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334500" cy="7048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72-30F6-493C-B04E-CAD2A05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36C-EE8E-49A3-B1FC-7382D724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21A-B2DD-4638-862C-01F05094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8256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5280" y="203652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984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8256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65280" y="4245480"/>
            <a:ext cx="255456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76D-46FB-4094-93A6-5E5A5716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865-6C0C-48E5-96E2-0FB3C06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34F-7CA3-4802-94CD-6C9B8198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491-A32E-493D-9349-F85F16C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D19-65AE-4804-A8D4-B098EB4B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9840" y="626760"/>
            <a:ext cx="7934040" cy="54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A52-F40D-47DE-97E6-0D608409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C1C-55A7-4FFC-B68E-9552166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5680" y="424548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5C7-452A-4E97-8D2B-CB1AA93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984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5680" y="2036520"/>
            <a:ext cx="387180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9840" y="4245480"/>
            <a:ext cx="7934040" cy="201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C04-C7EA-490D-9260-815A571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626760"/>
            <a:ext cx="7934040" cy="117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2036520"/>
            <a:ext cx="7934040" cy="4228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9000"/>
          </a:bodyPr>
          <a:p>
            <a:pPr marL="347400" indent="-3474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812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1800" indent="-230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85480" indent="-2325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920" y="6421320"/>
            <a:ext cx="194472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FCD0007-59CD-4FD2-805C-7796F3C3137E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9840" y="6421320"/>
            <a:ext cx="29559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9520" y="6421320"/>
            <a:ext cx="1944360" cy="4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102DBA8-0A07-48CC-907B-959D887A57B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3160" y="6578640"/>
            <a:ext cx="241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5240" y="6421320"/>
            <a:ext cx="1789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11760" y="6578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4756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265800"/>
            <a:ext cx="933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780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82428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473720" y="0"/>
            <a:ext cx="385560" cy="54756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121360" y="0"/>
            <a:ext cx="387360" cy="54756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743440" y="0"/>
            <a:ext cx="38736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3280" y="1219320"/>
            <a:ext cx="4434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7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6222960" y="2697120"/>
            <a:ext cx="1866960" cy="1652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6560" y="1219320"/>
            <a:ext cx="420084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2313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37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3280" y="704880"/>
            <a:ext cx="7778880" cy="4063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r" pos="253512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7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>NJSZT</dc:creator>
  <dc:description/>
  <dc:language>en-US</dc:language>
  <cp:lastModifiedBy>.</cp:lastModifiedBy>
  <dcterms:modified xsi:type="dcterms:W3CDTF">2003-05-25T07:49:32Z</dcterms:modified>
  <cp:revision>18</cp:revision>
  <dc:subject>ECDL</dc:subject>
  <dc:title>Prezentáció forrás, 17.feladat</dc:title>
</cp:coreProperties>
</file>