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525000" cy="647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FF1-64A3-4F6A-A19A-9808BA66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C5A-6202-4B84-ADF2-C07DC69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C06-E4F6-4082-80E7-6F51C1CC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168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912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424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168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912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F82-6F81-4034-9D2A-D0BC202F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740-5716-49DA-B8E7-49260AB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420-E364-476B-8704-A30ABC40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7AC-0F4D-4692-84F6-ABDD199A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7C5-08A4-49F8-A72C-02E8C66F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4240" y="1079640"/>
            <a:ext cx="80964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829-C226-4805-A515-1FC4CC4C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C40-4DF1-49C1-BDEB-4FC40026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3DC-EC38-4AC9-AB94-AD1FF86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A52-DA70-4C15-B874-171C5AB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5900400"/>
            <a:ext cx="198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5900400"/>
            <a:ext cx="3016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5900400"/>
            <a:ext cx="1984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64E8-D53B-4D08-8D66-383B3FC66AA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47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00" y="2858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mérés az internet-használók kör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 felmérésben résztvev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zépiskolás diák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iskolások, egyetemist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llemi foglalkozás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z internetet rendszeresen használó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6560" y="2519280"/>
          <a:ext cx="29260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519280"/>
                    <a:ext cx="29260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33680" y="2519280"/>
          <a:ext cx="292572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368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50120" y="2519280"/>
          <a:ext cx="2925720" cy="25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012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4920" y="5456160"/>
            <a:ext cx="317520" cy="289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44920" y="5024520"/>
            <a:ext cx="31752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3160" y="4952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3160" y="5384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aponta a hálózaton töltött idő az internetezők köré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2374920"/>
          <a:ext cx="80964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374920"/>
                    <a:ext cx="80964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Előrejelzés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3505320" cy="1523880"/>
          </a:xfrm>
          <a:prstGeom prst="rightArrow">
            <a:avLst>
              <a:gd name="adj1" fmla="val 37704"/>
              <a:gd name="adj2" fmla="val 6352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7:42:55Z</dcterms:created>
  <dc:creator>NJSZT</dc:creator>
  <dc:description/>
  <dc:language>en-US</dc:language>
  <cp:lastModifiedBy>.</cp:lastModifiedBy>
  <dcterms:modified xsi:type="dcterms:W3CDTF">2003-05-25T15:48:23Z</dcterms:modified>
  <cp:revision>9</cp:revision>
  <dc:subject>ECDL</dc:subject>
  <dc:title>Prezentáció forrás, 50.feladat</dc:title>
</cp:coreProperties>
</file>