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B3EC-C403-4E50-A3AE-4B9AD27B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893B-F10E-4FCA-A4AE-50A94D70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2E9-E3BC-4F43-A4A4-D2006BE5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CC2-25BA-4939-A62A-9D9B0857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4D22-32B8-4474-A188-7293931D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8E94-7808-4C84-AAD6-8624EFE7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0CCC-414F-413D-BF80-D5BBB8E7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204A-2712-4F82-97FD-5ADFCBBE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4A7-0A52-41DC-96AF-88DC85A5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1660-B9AB-4109-9A3A-8C5DBE99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4B39-2ACA-4182-A0B6-096284C3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B68-C8F4-4FE7-9B29-E52D069A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8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DF65-EA60-41D6-A4A2-DD99BE14D463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680" y="571680"/>
            <a:ext cx="8001000" cy="5715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5-ben alakultunk meg mint adótanácsadó iroda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A tevékenységi körünk  száma 1997-re elérte az 5-öt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8-ban új épületbe költöztünk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Az új sokszorosító üzembe helyezésével munkatársaink száma 30%-kal nőtt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8 végére új számítógépeket vásároltunk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1999-ben nyitottuk meg utazási irodánkat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A Ház fejlődése öt év alat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6T09:50:22Z</dcterms:created>
  <dc:creator>NJSZT</dc:creator>
  <dc:description/>
  <dc:language>en-US</dc:language>
  <cp:lastModifiedBy>.</cp:lastModifiedBy>
  <dcterms:modified xsi:type="dcterms:W3CDTF">2003-05-24T22:14:03Z</dcterms:modified>
  <cp:revision>5</cp:revision>
  <dc:subject>ECDL</dc:subject>
  <dc:title>Prezentáció forrás, 11.feladat</dc:title>
</cp:coreProperties>
</file>