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973-7556-4ABB-82E2-E552050B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9B4-C655-4D3E-B1E3-CE0CA012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572-E942-4D60-BA36-5A8ED413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D1E-8ED4-47F3-9C34-05DAF2E0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4B2-73D4-43AD-B034-2235E91E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806-843A-4BB0-B175-B2DA937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1C3-8550-4E74-BA91-80FE2890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F77-03F6-47C0-BED2-6A1494DB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D13-5FB1-435F-96A7-85AED853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876-D375-4037-BCA0-785AD90B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B3F-A207-49EF-8D66-EF2EA1A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5A9-F8C8-48AA-AA1C-3A54D35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CEE6-F2C5-498B-82DD-2583A0AADD65}" type="datetime">
              <a:rPr b="0" lang="en-US" sz="1400" spc="-1" strike="noStrike">
                <a:solidFill>
                  <a:srgbClr val="ffcccc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5765-922D-42C6-84A0-4FD5B48C1879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1D5C6-C1A3-470D-B826-3C9114653C0A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1583F-CD02-4336-B359-876793FB95B2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18_" descr="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4C9C0-2E6C-4E53-B6A2-C5B7D1BEC8D1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2CF74-E83F-432B-A2AB-26D47F8B9F9D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259C3-47AF-4F14-95DB-77355D2F2BAE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DB520-0678-44D7-91F6-E6F260F5F6A1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NJSZT</dc:creator>
  <dc:description/>
  <dc:language>en-US</dc:language>
  <cp:lastModifiedBy>.</cp:lastModifiedBy>
  <dcterms:modified xsi:type="dcterms:W3CDTF">2003-05-25T08:01:06Z</dcterms:modified>
  <cp:revision>7</cp:revision>
  <dc:subject>ECDL</dc:subject>
  <dc:title>Prezentáció forrás, 18.feladat</dc:title>
</cp:coreProperties>
</file>