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A69-B61B-461B-A3E2-7B051773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F1E-3315-4F60-82E8-9FD4BB3F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B23-FE7A-4328-91FA-1115628C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E79-D9BD-4A20-8E93-B8366DD8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30B-85EF-4A8A-B1B2-EC7B1BF2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F52-475A-4911-8CA8-CE0CA764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015-7381-431A-965B-BA34562A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789-4978-430D-B888-2AD050BB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064-F061-41E5-B7DB-303E032A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E94-C856-4EE1-AD80-27757215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72D-CE72-41D4-8549-3E7C587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0A5-0A3E-453F-8CAB-036C094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90288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26396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62504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6DA-A176-4450-BFF8-95EFA9B3E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858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0666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95280" y="9684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152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143000" y="5335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0520" y="1600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12193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20574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743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43828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14400" y="7621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D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uropean Computer Driving Lic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z ECDL moduljai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KT alapismer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98108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net és kommunik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KT alapismeret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2:47:14Z</dcterms:created>
  <dc:creator>NJSZT</dc:creator>
  <dc:description/>
  <dc:language>en-US</dc:language>
  <cp:lastModifiedBy/>
  <dcterms:modified xsi:type="dcterms:W3CDTF">2008-11-18T16:44:28Z</dcterms:modified>
  <cp:revision>8</cp:revision>
  <dc:subject>ECDL</dc:subject>
  <dc:title>Prezentáció forrás, 1.feladat</dc:title>
</cp:coreProperties>
</file>