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3DD0-D0DF-456E-8F05-6E01DD861D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ávok koncentrikusan elhelyezkedő körök. A lemez kapacitása függ a sávok és a szektorok számától. Egy szektor mérete 512 b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D63-50B1-407B-947A-1481CD58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31E-B781-421A-9249-093E5155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6F2-FD55-4075-9798-136B3F3B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EC8-10C5-4A5A-B55B-AB732574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B6B-8602-4B02-ADEC-8D3BB7F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E1E-8E2E-495A-B7B4-AB1A22E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2F5-CBB8-48DC-918C-355F354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C50-BE13-4E07-9785-4A94DC5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ABB-C585-4B0C-A425-93331A4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1AB-E5E8-49B3-B290-0F6E017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ABC-403C-4E32-9F42-03D3F22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CC1-4265-4CB3-B3C5-DDEE0BE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43080"/>
            <a:ext cx="8305920" cy="6172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5AC-479A-4B37-82E7-DC4C1DE05D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0480" y="2639880"/>
            <a:ext cx="35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zámítógé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ismer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Times New Roman"/>
              </a:rPr>
              <a:t>kezdőkne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1447920"/>
            <a:ext cx="4318200" cy="4317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808280"/>
            <a:ext cx="3598920" cy="359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166840"/>
            <a:ext cx="2879640" cy="288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60720" y="2527200"/>
            <a:ext cx="2158920" cy="215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080" y="2887560"/>
            <a:ext cx="144000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9051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áv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1464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880" y="5335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merevlemez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5486400"/>
            <a:ext cx="3045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4000" y="5486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avult formátum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080"/>
        </p:xfrm>
        <a:graphic>
          <a:graphicData uri="http://schemas.openxmlformats.org/drawingml/2006/table">
            <a:tbl>
              <a:tblPr/>
              <a:tblGrid>
                <a:gridCol w="2209680"/>
                <a:gridCol w="2819520"/>
                <a:gridCol w="27432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D + 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rási seb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paci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lemeztípus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mpaktlemez (C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1:38:16Z</dcterms:created>
  <dc:creator>NJSZT</dc:creator>
  <dc:description/>
  <dc:language>en-US</dc:language>
  <cp:lastModifiedBy>Rokobauer József</cp:lastModifiedBy>
  <dcterms:modified xsi:type="dcterms:W3CDTF">2008-05-15T07:17:35Z</dcterms:modified>
  <cp:revision>13</cp:revision>
  <dc:subject>ECDL</dc:subject>
  <dc:title>Prezentáció forrás, 13.feladat</dc:title>
</cp:coreProperties>
</file>