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3C4-EB81-46E8-89EC-58D02153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E9C-B15E-4890-91F5-90DA84FC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78F-1ACB-4E4D-81B0-EBF3350C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733-9525-4281-ADFA-38EEA991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AAD8-2B81-469A-9B81-8933F9A3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0243-8EC4-46BC-8DF2-4015BD0D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B92E-C687-45C4-848E-7E10FEF0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76CB-DE16-47CA-91F0-D8A8C2DB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80D3-1E89-40B7-B157-EA3E6CEC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6A53-2765-4B2D-994D-FEA4EBA4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6E5F-D408-439B-B0A2-128F33EF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05E-61A6-429E-9D6B-D7ACC137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29B7-BC4A-4D1F-9326-35AC7DFE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86C3-2252-405C-827D-76AEB4D1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F1FE-8056-4C41-9930-B145D706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0FB8-ED86-4BD3-82E8-5C71D982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34CB-FED3-49E2-91CA-8F5FD329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68A-0EF7-49AD-BDDF-559D56B3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DD5-B140-4BE2-910C-6E25EDA7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A57-DD2E-4E4C-90D7-2C4A6564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434-990E-4416-9028-9771C9B4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17B-2952-4AF1-BE1E-1F97CA0E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898-4B34-477F-BFBE-BC0010CF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D53-6F2C-4BCF-B866-A62797D1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2720" y="549360"/>
            <a:ext cx="791676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1574-C4C0-4138-89A5-7DA9300A5E2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2720" y="549360"/>
            <a:ext cx="791676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2F83-FD63-4496-BC3E-0EF1DC0F008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7772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észvénytársaságunk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rodaházak, raktárak, üzletközpontok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tervezésével és kivitelezésével foglalkozik. Sikeres üzletpolitikánk titka az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gényesség, gyorsaság és megbízhatóság.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Ezt bizonyítja, hogy megalakulásunk óta több mint 40 jelentős beruházást hajtottunk vég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Jegyezzen Ön is részvényünkbő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236232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66960" y="2833560"/>
            <a:ext cx="720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66"/>
                </a:solidFill>
                <a:latin typeface="Times New Roman"/>
              </a:rPr>
              <a:t>További felvilágosításért hívja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66"/>
                </a:solidFill>
                <a:latin typeface="Times New Roman"/>
              </a:rPr>
              <a:t>999-9999-es telefonszám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01:57:31Z</dcterms:created>
  <dc:creator>NJSZT</dc:creator>
  <dc:description/>
  <dc:language>en-US</dc:language>
  <cp:lastModifiedBy>.</cp:lastModifiedBy>
  <dcterms:modified xsi:type="dcterms:W3CDTF">2003-05-26T19:44:00Z</dcterms:modified>
  <cp:revision>12</cp:revision>
  <dc:subject>ECDL</dc:subject>
  <dc:title>Prezentáció forrás, 26.feladat</dc:title>
</cp:coreProperties>
</file>