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CB5-A9D1-4748-BB6B-956C4A22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B49-2B7A-4DAA-A7A5-8246559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722-32C8-445B-A5BF-E41186ED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03C-CCCD-4110-98B7-E2FA56BA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98B-7B25-490D-B0CA-75AADC9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9C4-4FE0-4C0F-B3C4-AB28CA8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6C8-290E-47B4-96CA-E09ECD7E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9B2-8084-4E98-8296-8E7BDB20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F29-6BDF-48CC-9F7A-2AFB9B8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1C6-8197-43DC-A0D5-B9DB618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6F1-684F-452E-B2A8-3651CEC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361-5EB7-482E-8101-5353EC8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9EE-6944-459E-BDF6-980458B4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ff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NJSZT</dc:creator>
  <dc:description/>
  <dc:language>en-US</dc:language>
  <cp:lastModifiedBy>.</cp:lastModifiedBy>
  <dcterms:modified xsi:type="dcterms:W3CDTF">2003-05-25T13:53:33Z</dcterms:modified>
  <cp:revision>10</cp:revision>
  <dc:subject>ECDL</dc:subject>
  <dc:title>Prezentáció forrás, 35.feladat</dc:title>
</cp:coreProperties>
</file>