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717-CA9D-4D66-AFD3-4E4F07EF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5BD-D822-4279-B9AA-12EEEA2B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659-2B0F-4B9A-8433-D49D2626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197-1579-48BC-9A7E-D7615116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439-990A-45F6-A31A-A4828E89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29B-262E-4136-81AF-C6B58D14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236-466A-4077-9ACA-AD6CFD3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FF0-1B00-46BB-B5B7-1B04E97B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191-C838-4C48-B25A-2C1F0565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81E-DC7C-498B-8F26-9B1792A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797-4405-44C2-B52E-86781165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F9D-EED8-494F-9C87-14E1B42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65240"/>
            <a:ext cx="881208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E394-1FDA-488C-94D6-D1D448C2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ítástechnikai alapismeretek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övegszerkesztés, 3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blázatkezelés, 36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zentációkészítés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DL, 1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ítástechnikai szoftverüzemeltető, 2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ítástechnikai programozó, 120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38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66680" y="5078160"/>
            <a:ext cx="6591600" cy="1170000"/>
          </a:xfrm>
          <a:custGeom>
            <a:avLst/>
            <a:gdLst>
              <a:gd name="textAreaLeft" fmla="*/ 997560 w 6591600"/>
              <a:gd name="textAreaRight" fmla="*/ 5594040 w 6591600"/>
              <a:gd name="textAreaTop" fmla="*/ 177120 h 1170000"/>
              <a:gd name="textAreaBottom" fmla="*/ 99288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65" y="21600"/>
                </a:lnTo>
                <a:lnTo>
                  <a:pt x="2735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90720" y="4014000"/>
            <a:ext cx="4943520" cy="1063800"/>
          </a:xfrm>
          <a:custGeom>
            <a:avLst/>
            <a:gdLst>
              <a:gd name="textAreaLeft" fmla="*/ 824760 w 4943520"/>
              <a:gd name="textAreaRight" fmla="*/ 4118760 w 4943520"/>
              <a:gd name="textAreaTop" fmla="*/ 177480 h 1063800"/>
              <a:gd name="textAreaBottom" fmla="*/ 886320 h 10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63" y="21600"/>
                </a:lnTo>
                <a:lnTo>
                  <a:pt x="3337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szoftverüzemelt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0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664000" y="1675440"/>
            <a:ext cx="3396960" cy="2338200"/>
          </a:xfrm>
          <a:custGeom>
            <a:avLst/>
            <a:gdLst>
              <a:gd name="textAreaLeft" fmla="*/ 1218600 w 3396960"/>
              <a:gd name="textAreaRight" fmla="*/ 2178360 w 3396960"/>
              <a:gd name="textAreaTop" fmla="*/ 838800 h 2338200"/>
              <a:gd name="textAreaBottom" fmla="*/ 1499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95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181120" y="1904760"/>
            <a:ext cx="2971800" cy="4267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8360" y="907920"/>
            <a:ext cx="7703640" cy="4103280"/>
            <a:chOff x="468360" y="907920"/>
            <a:chExt cx="7703640" cy="4103280"/>
          </a:xfrm>
        </p:grpSpPr>
        <p:cxnSp>
          <p:nvCxnSpPr>
            <p:cNvPr id="50" name="_s10273"/>
            <p:cNvCxnSpPr>
              <a:stCxn id="51" idx="0"/>
              <a:endCxn id="52" idx="2"/>
            </p:cNvCxnSpPr>
            <p:nvPr/>
          </p:nvCxnSpPr>
          <p:spPr>
            <a:xfrm flipV="1">
              <a:off x="5908320" y="413172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45"/>
            <p:cNvCxnSpPr>
              <a:stCxn id="52" idx="0"/>
              <a:endCxn id="54" idx="2"/>
            </p:cNvCxnSpPr>
            <p:nvPr/>
          </p:nvCxnSpPr>
          <p:spPr>
            <a:xfrm flipV="1">
              <a:off x="5908320" y="325224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46"/>
            <p:cNvCxnSpPr>
              <a:stCxn id="56" idx="1"/>
              <a:endCxn id="57" idx="2"/>
            </p:cNvCxnSpPr>
            <p:nvPr/>
          </p:nvCxnSpPr>
          <p:spPr>
            <a:xfrm rot="10800000">
              <a:off x="1148760" y="3251880"/>
              <a:ext cx="22572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47"/>
            <p:cNvCxnSpPr>
              <a:stCxn id="59" idx="1"/>
              <a:endCxn id="57" idx="2"/>
            </p:cNvCxnSpPr>
            <p:nvPr/>
          </p:nvCxnSpPr>
          <p:spPr>
            <a:xfrm rot="10800000">
              <a:off x="1148760" y="3251880"/>
              <a:ext cx="22572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248"/>
            <p:cNvCxnSpPr>
              <a:stCxn id="61" idx="0"/>
              <a:endCxn id="62" idx="2"/>
            </p:cNvCxnSpPr>
            <p:nvPr/>
          </p:nvCxnSpPr>
          <p:spPr>
            <a:xfrm flipV="1" rot="16200000">
              <a:off x="694908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249"/>
            <p:cNvCxnSpPr>
              <a:stCxn id="54" idx="0"/>
              <a:endCxn id="62" idx="2"/>
            </p:cNvCxnSpPr>
            <p:nvPr/>
          </p:nvCxnSpPr>
          <p:spPr>
            <a:xfrm flipH="1" flipV="1" rot="5400000">
              <a:off x="615744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50"/>
            <p:cNvCxnSpPr>
              <a:stCxn id="65" idx="0"/>
              <a:endCxn id="66" idx="2"/>
            </p:cNvCxnSpPr>
            <p:nvPr/>
          </p:nvCxnSpPr>
          <p:spPr>
            <a:xfrm flipV="1" rot="16200000">
              <a:off x="3381840" y="1725120"/>
              <a:ext cx="293760" cy="158868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251"/>
            <p:cNvCxnSpPr>
              <a:stCxn id="68" idx="0"/>
              <a:endCxn id="66" idx="2"/>
            </p:cNvCxnSpPr>
            <p:nvPr/>
          </p:nvCxnSpPr>
          <p:spPr>
            <a:xfrm flipV="1">
              <a:off x="2734560" y="237276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52"/>
            <p:cNvCxnSpPr>
              <a:stCxn id="57" idx="0"/>
              <a:endCxn id="66" idx="2"/>
            </p:cNvCxnSpPr>
            <p:nvPr/>
          </p:nvCxnSpPr>
          <p:spPr>
            <a:xfrm flipH="1" flipV="1" rot="5400000">
              <a:off x="1794960" y="1726560"/>
              <a:ext cx="293760" cy="15858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3"/>
            <p:cNvCxnSpPr>
              <a:stCxn id="62" idx="0"/>
              <a:endCxn id="71" idx="2"/>
            </p:cNvCxnSpPr>
            <p:nvPr/>
          </p:nvCxnSpPr>
          <p:spPr>
            <a:xfrm flipV="1" rot="16200000">
              <a:off x="5562360" y="649080"/>
              <a:ext cx="293760" cy="198252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4"/>
            <p:cNvCxnSpPr>
              <a:stCxn id="66" idx="0"/>
              <a:endCxn id="71" idx="2"/>
            </p:cNvCxnSpPr>
            <p:nvPr/>
          </p:nvCxnSpPr>
          <p:spPr>
            <a:xfrm flipH="1" flipV="1" rot="5400000">
              <a:off x="3579480" y="648360"/>
              <a:ext cx="293760" cy="19839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255"/>
            <p:cNvSpPr/>
            <p:nvPr/>
          </p:nvSpPr>
          <p:spPr>
            <a:xfrm>
              <a:off x="4036680" y="9079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folyama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256"/>
            <p:cNvSpPr/>
            <p:nvPr/>
          </p:nvSpPr>
          <p:spPr>
            <a:xfrm>
              <a:off x="20548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257"/>
            <p:cNvSpPr/>
            <p:nvPr/>
          </p:nvSpPr>
          <p:spPr>
            <a:xfrm>
              <a:off x="60202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yel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0258"/>
            <p:cNvSpPr/>
            <p:nvPr/>
          </p:nvSpPr>
          <p:spPr>
            <a:xfrm>
              <a:off x="4683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a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259"/>
            <p:cNvSpPr/>
            <p:nvPr/>
          </p:nvSpPr>
          <p:spPr>
            <a:xfrm>
              <a:off x="205488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özé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10260"/>
            <p:cNvSpPr/>
            <p:nvPr/>
          </p:nvSpPr>
          <p:spPr>
            <a:xfrm>
              <a:off x="36417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elt szint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10261"/>
            <p:cNvSpPr/>
            <p:nvPr/>
          </p:nvSpPr>
          <p:spPr>
            <a:xfrm>
              <a:off x="5228640" y="26665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g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0262"/>
            <p:cNvSpPr/>
            <p:nvPr/>
          </p:nvSpPr>
          <p:spPr>
            <a:xfrm>
              <a:off x="6813360" y="266652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ém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263"/>
            <p:cNvSpPr/>
            <p:nvPr/>
          </p:nvSpPr>
          <p:spPr>
            <a:xfrm>
              <a:off x="1374840" y="354564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10264"/>
            <p:cNvSpPr/>
            <p:nvPr/>
          </p:nvSpPr>
          <p:spPr>
            <a:xfrm>
              <a:off x="1374840" y="44251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265"/>
            <p:cNvSpPr/>
            <p:nvPr/>
          </p:nvSpPr>
          <p:spPr>
            <a:xfrm>
              <a:off x="5228640" y="354564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ezd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272"/>
            <p:cNvSpPr/>
            <p:nvPr/>
          </p:nvSpPr>
          <p:spPr>
            <a:xfrm>
              <a:off x="5228640" y="44251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lad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572000" y="5715000"/>
            <a:ext cx="43178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Rokobauer József</cp:lastModifiedBy>
  <dcterms:modified xsi:type="dcterms:W3CDTF">2008-05-21T12:19:08Z</dcterms:modified>
  <cp:revision>15</cp:revision>
  <dc:subject/>
  <dc:title>Tanfolyami kínálatunkból</dc:title>
</cp:coreProperties>
</file>