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4770-E430-45A6-ACB9-946CE8A4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53F-F48D-4B1F-902C-1912E19F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2A8-2311-4BA8-A19D-6C7E743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28E-76C1-4CE4-9943-1E5DD6B9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2E1-C4DF-442F-901C-8B274618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027-ECAB-49F2-A911-3A1ADE3A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46C-5C9F-4415-9D96-5E0827E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4BB-DBFD-485C-9F90-0137511A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4FC-0535-4F84-A02C-BB3B2538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D8F-AD57-444B-82D7-228F783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B5B-53CE-4169-B35E-0D4AB3E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8FA-C0A9-4264-8B25-3426287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EDA-5339-40FE-8099-26D085D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A898-0895-42FC-BA91-24074A991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8911_" descr="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975_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686_" descr="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.</cp:lastModifiedBy>
  <dcterms:modified xsi:type="dcterms:W3CDTF">2003-03-25T17:01:23Z</dcterms:modified>
  <cp:revision>6</cp:revision>
  <dc:subject>ECDL</dc:subject>
  <dc:title>Prezentáció forrás, 22.feladat</dc:title>
</cp:coreProperties>
</file>