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64E1-9F03-490E-A2DC-11BD8CBB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2C2B-2C0D-4E85-B805-1D9864BB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A51-3961-4F3E-B11E-AB693751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0F0A-08F6-4F45-A46F-2715C512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77D-E42F-4016-9B83-E2F337FC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0E3A-5B8F-48F0-98F7-1FD68141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85A9-A4FA-4A4C-8E86-DBD7C40B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CD6-37F0-47B5-B815-96F92200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6BC-DD86-4B13-9C80-F35CA5D1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59B-D68D-4912-902F-67E8B9C3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336-0A77-4F8A-BE29-EAB3C37F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A54E-111D-4C40-8110-CC64E57D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46DE-58B9-4A13-A869-0B5341772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8840" y="639720"/>
            <a:ext cx="754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</a:rPr>
              <a:t>XXX 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hu-HU" sz="18000" spc="-1" strike="noStrike">
                <a:solidFill>
                  <a:srgbClr val="000000"/>
                </a:solidFill>
                <a:latin typeface="Times New Roman"/>
              </a:rPr>
              <a:t>zzéri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4591080"/>
            <a:ext cx="640080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105000"/>
            <a:ext cx="6400800" cy="38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933480"/>
            <a:ext cx="640080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876240"/>
            <a:ext cx="5639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zz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mb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jtos, gomb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öldsé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wa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ogna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sványví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énsavas üdít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tos üdít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szer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ztenyepür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gylaltkeh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7360" y="2757600"/>
            <a:ext cx="61311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itvatartá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–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9.00–21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zo–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00–23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ztalfoglalás és megrendelés: (10) 123-4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9:23:51Z</dcterms:created>
  <dc:creator>NJSZT</dc:creator>
  <dc:description/>
  <dc:language>en-US</dc:language>
  <cp:lastModifiedBy>.</cp:lastModifiedBy>
  <dcterms:modified xsi:type="dcterms:W3CDTF">2003-05-24T21:26:15Z</dcterms:modified>
  <cp:revision>7</cp:revision>
  <dc:subject>ECDL</dc:subject>
  <dc:title>Prezentáció forrás, 5.feladat</dc:title>
</cp:coreProperties>
</file>