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2A1-329C-4C8B-9599-C8878AC8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7E0-E3B7-4048-A38C-31DE7C5A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DB7-4AED-4C20-9146-393167C7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BD0-DAE4-48D3-9554-3BFADBE3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605-690D-49D9-82BE-94EC70C6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5F7-892B-4F25-96F6-D39F7FA3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E4E-E32D-46FB-9A64-FD1749A7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A62-7829-49C5-BC70-EFA5E8ED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DFD-E2BB-4232-927B-90DA1A00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81A-1223-4E31-947B-65CA29B0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E40-2709-4130-84F9-E8109A6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57A-DDA1-40E1-81FB-2FCDF7BA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4EF7-75B5-4C52-9E85-BA6CAE9FFF7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71680"/>
            <a:ext cx="8001000" cy="5715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5-ben alakultunk meg mint adótanácsadó iroda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 tevékenységi körünk  száma 1997-re elérte az 5-ö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-ban új épületbe költöztü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z új sokszorosító üzembe helyezésével munkatársaink száma 30%-kal nőt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 végére új számítógépeket vásároltu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9-ben nyitottuk meg utazási irodánka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A Ház fejlődése öt év alat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9:50:22Z</dcterms:created>
  <dc:creator>NJSZT</dc:creator>
  <dc:description/>
  <dc:language>en-US</dc:language>
  <cp:lastModifiedBy>.</cp:lastModifiedBy>
  <dcterms:modified xsi:type="dcterms:W3CDTF">2003-05-24T22:23:48Z</dcterms:modified>
  <cp:revision>6</cp:revision>
  <dc:subject>ECDL</dc:subject>
  <dc:title>Prezentáció forrás, 12.feladat</dc:title>
</cp:coreProperties>
</file>