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DDF-5F9D-4013-8C87-8E821605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5C9-CB69-4233-B504-F4DB5AC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9C1-E80C-4758-94EA-B43B39BB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728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1960" y="129528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260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728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1960" y="2799720"/>
            <a:ext cx="2318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867-E4BA-4739-9B30-B88C151B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AEF-A71F-4AF7-9F39-FB446F6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FDB-15A9-4770-9F55-8B7E37E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0BB-064A-4396-9394-152445DD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803-9E20-4656-9194-907C907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8762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CD7-FD77-4BF7-8BCA-0DCD0A70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74D-4A00-4521-AFB7-B4496AB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2600" y="279972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A9F-C887-43F2-B49C-A53D328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2600" y="1295280"/>
            <a:ext cx="35139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2600" y="2799720"/>
            <a:ext cx="720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7C6-2496-433E-9A99-F2F44D4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98680" y="1270080"/>
            <a:ext cx="728820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644-7816-402E-938B-E2BC58206E9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761760" y="3808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lorie.com/house/old/house-4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attelle.org/careers/gfx/house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i.org/house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42600" y="1295280"/>
            <a:ext cx="7201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518004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28640" y="5104440"/>
            <a:ext cx="71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use-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124080"/>
            <a:ext cx="3040200" cy="20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838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ferenciá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ouse" descr="">
            <a:hlinkClick r:id="rId3"/>
          </p:cNvPr>
          <p:cNvPicPr/>
          <p:nvPr/>
        </p:nvPicPr>
        <p:blipFill>
          <a:blip r:embed="rId4"/>
          <a:srcRect l="3952" t="7014" r="6582" b="12212"/>
          <a:stretch/>
        </p:blipFill>
        <p:spPr>
          <a:xfrm>
            <a:off x="2552760" y="16765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house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3680" y="205740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NJSZT</dc:creator>
  <dc:description/>
  <dc:language>en-US</dc:language>
  <cp:lastModifiedBy>.</cp:lastModifiedBy>
  <dcterms:modified xsi:type="dcterms:W3CDTF">2003-05-25T14:10:09Z</dcterms:modified>
  <cp:revision>12</cp:revision>
  <dc:subject>ECDL</dc:subject>
  <dc:title>Prezentáció forrás, 37.feladat</dc:title>
</cp:coreProperties>
</file>