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201-A5B7-4496-B2BE-16553C06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AAC3-DBA0-4934-92BE-E87CBFAC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4C0-35CF-4FBA-910C-25471ECD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AA1-CE7A-4F9B-BBC7-81C7B7E3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6DE-3177-43D8-8917-6686EDD5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780D-FAD9-4D40-AB2D-DE33A504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0609-B4D6-48CA-AEFE-A4F6C831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FB6-CBB2-4BC7-8636-F6469056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8F0-C6ED-489D-A41B-CD9897F6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1CF-4937-4954-A27C-48899D0F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AF4-9B56-412C-AE8C-9A937E3E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5DF-CE23-4541-A68F-14CD8A69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3815-BA9B-4F35-AB82-50A981A9B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8840" y="639720"/>
            <a:ext cx="754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XXX 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hu-HU" sz="18000" spc="-1" strike="noStrike">
                <a:solidFill>
                  <a:srgbClr val="000000"/>
                </a:solidFill>
                <a:latin typeface="Times New Roman"/>
              </a:rPr>
              <a:t>zzéri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4591080"/>
            <a:ext cx="60958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105000"/>
            <a:ext cx="609588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933480"/>
            <a:ext cx="60958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76240"/>
            <a:ext cx="563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zz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jtos, 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öldsé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ogn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sványví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énsava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to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szer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ztenyepür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gylaltkeh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0240" y="2754360"/>
            <a:ext cx="62668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itvatartá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–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.00–21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o–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00–23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ztalfoglalás és megrendelés: (10) 123-4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23:51Z</dcterms:created>
  <dc:creator>NJSZT</dc:creator>
  <dc:description/>
  <dc:language>en-US</dc:language>
  <cp:lastModifiedBy>.</cp:lastModifiedBy>
  <dcterms:modified xsi:type="dcterms:W3CDTF">2003-05-24T21:34:15Z</dcterms:modified>
  <cp:revision>6</cp:revision>
  <dc:subject>ECDL</dc:subject>
  <dc:title>Prezentáció forrás, 6.feladat</dc:title>
</cp:coreProperties>
</file>