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5929-A46C-4BA8-B6D2-DFAD2D87BF1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sávok koncentrikusan elhelyezkedő körök. A lemez kapacitása függ a sávok és a szektorok számától. Egy szektor mérete 512 b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ACE-5CE7-4A1E-9AA8-A75F56F6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86F-FAAD-4C78-8DA4-54E47626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12C-BD5A-4AEE-8D38-6379B2E3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D67-5933-4AE2-87E1-441D2238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034-82DC-4DFB-9C33-6E4BD245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AC1-43A5-4876-A840-0BD190E1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01F2-272F-4C86-A93C-A97A3AA7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834-609E-40C3-9F43-43A95BE4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763-9221-4D39-A9FA-16DF4B91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6EA-1C56-4DA3-9F25-63A7DBB5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16B-F935-4C24-A93C-89FDB41B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A28-F971-4EEB-BBC7-280FAC5D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43080"/>
            <a:ext cx="8305920" cy="6172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765E-95CE-4D32-837B-5D82462A38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00480" y="2639880"/>
            <a:ext cx="3527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zámítógép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ismeret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kezdőkne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3887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4149720"/>
            <a:ext cx="3887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81080" y="1447920"/>
            <a:ext cx="4318200" cy="4317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1808280"/>
            <a:ext cx="3598920" cy="359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166840"/>
            <a:ext cx="2879640" cy="288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60720" y="2527200"/>
            <a:ext cx="2158920" cy="2159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1080" y="2887560"/>
            <a:ext cx="1440000" cy="144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190512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áv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714640" y="2209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880" y="5335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merevlemez szerkez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191120" y="5486400"/>
            <a:ext cx="30456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4000" y="548640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avult formátumo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981080"/>
          <a:ext cx="7772400" cy="4114080"/>
        </p:xfrm>
        <a:graphic>
          <a:graphicData uri="http://schemas.openxmlformats.org/drawingml/2006/table">
            <a:tbl>
              <a:tblPr/>
              <a:tblGrid>
                <a:gridCol w="2209680"/>
                <a:gridCol w="2819520"/>
                <a:gridCol w="274320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VD + 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VD + 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Írási sebessé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paci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 G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lemeztípus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kompaktlemez (C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ípus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1:38:16Z</dcterms:created>
  <dc:creator>NJSZT</dc:creator>
  <dc:description/>
  <dc:language>en-US</dc:language>
  <cp:lastModifiedBy>Rokobauer József</cp:lastModifiedBy>
  <dcterms:modified xsi:type="dcterms:W3CDTF">2008-05-15T08:09:31Z</dcterms:modified>
  <cp:revision>16</cp:revision>
  <dc:subject>ECDL</dc:subject>
  <dc:title>Prezentáció forrás, 15.feladat</dc:title>
</cp:coreProperties>
</file>