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4F2-016C-44ED-A61A-DC066F79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4B9-DC6C-44AE-9FB3-B46A0E81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4AB-B6F9-4E4F-9846-4ABC9439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B50-464C-44A3-8303-D8AAF4B7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6CC-8DAD-4B1A-AA65-64E9CCF2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A74-4513-402D-8C82-E7F58B4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AF3-1135-4EDE-8E12-BD86A898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204-71EB-47A6-AA6D-5992DEB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FA3-A337-4336-A8E7-73EE3F09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317-5E8D-47E8-B6E0-BA6AB81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DA7-3C19-4755-9004-4DF843B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926-5E6D-4C50-874B-0A27343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ACD-764E-4438-A49E-31ECF26F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ut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élkitű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ső t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ma felváz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ma kifej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rdések és válas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57:25Z</dcterms:created>
  <dc:creator>NJSZT</dc:creator>
  <dc:description/>
  <dc:language>en-US</dc:language>
  <cp:lastModifiedBy>.</cp:lastModifiedBy>
  <dcterms:modified xsi:type="dcterms:W3CDTF">2003-03-11T19:57:39Z</dcterms:modified>
  <cp:revision>1</cp:revision>
  <dc:subject>ECDL</dc:subject>
  <dc:title>Prezentáció forrás, 3b.feladat</dc:title>
</cp:coreProperties>
</file>