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8BA-6F4F-4A5E-A791-120BE3F0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9F5-8298-417B-BD81-6CF81368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87F-34FD-42AD-B496-1DA82A67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412-080C-4866-AC8E-36237F49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140-60DE-4FD6-8351-B396ECAC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8EB-093D-4E30-A956-0D4D09D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41B-B37E-45F4-AA31-E4480344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970-9A22-499A-AFA3-CF74CB2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9A9-93E3-4ECD-999F-95E8B4F9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907-FF35-4D7E-A16B-A2CF4C8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E50-B8E2-424D-912A-07383BDA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FD9-1806-45C9-A3BD-4652D3A4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277480" cy="611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704B-8882-4FBA-92D9-28F3E820CE6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z XXX-Komplex szolgáltatóház tevékenységi kö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Adó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Befektetési 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Egyéni vállalkozók, társaságok könyvvi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Jogi ügyinté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Ingatlanközvet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Nyomdai 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zöveg- és kiadványszerk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Rendezvények, konferenciák lebonyol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Reklám- és marketingtevéken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Utazási ir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peciális egyéni 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Szolgáltatóház bevétel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-ben a főbb tevékenységekbő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zolgáltatóház partne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21:36Z</dcterms:created>
  <dc:creator>NJSZT</dc:creator>
  <dc:description/>
  <dc:language>en-US</dc:language>
  <cp:lastModifiedBy>Rokobauer József</cp:lastModifiedBy>
  <dcterms:modified xsi:type="dcterms:W3CDTF">2008-11-07T14:39:16Z</dcterms:modified>
  <cp:revision>8</cp:revision>
  <dc:subject>ECDL</dc:subject>
  <dc:title>Prezentáció forrás, 9.feladat</dc:title>
</cp:coreProperties>
</file>