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105-83F1-41DA-AC02-0B4025A5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CFD-BB00-4BC8-8599-3EB035D4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96D-5257-42F8-86B2-5E954531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DCA-2AA0-4E6D-A16E-5E739091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EB3-35B9-456B-A123-330E61A0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F08-35C0-42F7-84E0-D3BA3D3A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4AA-8E08-4A04-8A1F-99E6E826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A20-DA41-4213-BD15-6CFC4BD9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63C-38A1-42F0-9F6F-04A8177F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5B8-9D4F-4BFA-9950-A3BD85D4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468-CBF5-4856-B265-F2A33679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71C-F95F-439E-8469-983A447E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F52A-CC16-491B-9DFD-440F2571C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ve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mutatko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élkitűzé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őbeo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ső té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éma felvázo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ma kifej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érdések és válasz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9:57:25Z</dcterms:created>
  <dc:creator>NJSZT</dc:creator>
  <dc:description/>
  <dc:language>en-US</dc:language>
  <cp:lastModifiedBy>.</cp:lastModifiedBy>
  <dcterms:modified xsi:type="dcterms:W3CDTF">2003-03-11T19:57:39Z</dcterms:modified>
  <cp:revision>1</cp:revision>
  <dc:subject>ECDL</dc:subject>
  <dc:title>Prezentáció forrás, 35b.feladat</dc:title>
</cp:coreProperties>
</file>