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780A-F88A-472E-92F4-5B19B7B96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35989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1640" y="3708360"/>
            <a:ext cx="35989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B1CA-FB3A-4D29-8488-D466D192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15920" y="182844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1640" y="370836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15920" y="370836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E2CE-25DE-4C5C-A7E6-91850D49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11584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88440" y="1828440"/>
            <a:ext cx="11584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05240" y="1828440"/>
            <a:ext cx="11584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1640" y="3708360"/>
            <a:ext cx="11584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88440" y="3708360"/>
            <a:ext cx="11584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05240" y="3708360"/>
            <a:ext cx="11584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9571-0A69-482D-9BD8-8AEFA6852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1640" y="1828440"/>
            <a:ext cx="359892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B4A0-CC3C-4573-8C95-81C7C321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35989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3F24-013D-452C-8742-E83F441A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17560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15920" y="1828440"/>
            <a:ext cx="17560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A3A2-72A4-44AA-B3C1-F676B46D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1BA0-9CAF-4787-8951-1A483848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3AA4-2660-45B5-A412-59DDD17A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15920" y="1828440"/>
            <a:ext cx="17560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1640" y="370836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0560-F147-495B-B10F-70022BAE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17560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15920" y="182844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15920" y="370836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5814-6CCC-4683-93EA-2AC80A3B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15920" y="182844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1640" y="3708360"/>
            <a:ext cx="35989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A0DE-A719-467D-B454-33A3EA3B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1640" y="1828440"/>
            <a:ext cx="35989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1520" indent="-146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46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316520" indent="-146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316520" indent="-146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316520" indent="-146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A447-52C5-4B69-A038-DCB840738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yilkos galó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35989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alap: 15 cm széles is lehet, sárgászöld színű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emezek: fehérek és sűrű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önk: 12 cm magas, alján bocsk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ogyaszthatóság: halálosan mérgező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gy őzlábgom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35989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alap: 25–30 cm széles, felülete pikkely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emezek: sűrűek, fehérek, majd barnás árnyalatú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önk: 40 cm magas is lehet, belül üre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ogyaszthatóság: ehető, finom íz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3244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ti csiper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1640" y="1828800"/>
            <a:ext cx="35989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alap: 12 cm átmérőjű is lehet, fehér szín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emezek: világos rózsaszínű, majd sötétbar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önk: átmérője legfeljebb 2 cm, gallé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ogyaszthatóság: ehető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őzláb" descr=""/>
          <p:cNvPicPr/>
          <p:nvPr/>
        </p:nvPicPr>
        <p:blipFill>
          <a:blip r:embed="rId1"/>
          <a:stretch/>
        </p:blipFill>
        <p:spPr>
          <a:xfrm>
            <a:off x="1143000" y="2055960"/>
            <a:ext cx="1863720" cy="27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2T18:31:04Z</dcterms:created>
  <dc:creator>NJSZT</dc:creator>
  <dc:description/>
  <dc:language>en-US</dc:language>
  <cp:lastModifiedBy>.</cp:lastModifiedBy>
  <dcterms:modified xsi:type="dcterms:W3CDTF">2003-05-26T20:21:56Z</dcterms:modified>
  <cp:revision>5</cp:revision>
  <dc:subject>ECDL</dc:subject>
  <dc:title>Prezentáció forrás, 30.feladat</dc:title>
</cp:coreProperties>
</file>